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86E6-8517-4C78-98B7-53097064C5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3365-D74D-48B6-9E72-95EB04AAA7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ABF-1BA2-4FF7-B508-6658F4D0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095-B6B2-4117-9806-95E936F3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88A-438C-4D5E-80D3-1EC9C800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364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272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364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272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B92B-1806-4850-98B0-2B395029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F001-8222-4276-B078-B2B3FCAF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7A2-08DC-4B51-916C-81AA4B51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512D-322E-4DDA-B103-6365B5D4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13BA-B9CF-43AE-9F88-806C5DCD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AD84-7404-4DA7-BA11-2B051529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49D-64AF-42B1-B545-30A372D1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6767-0AF8-4970-AF2E-3FE1F605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098-6DC9-4EF1-8A97-5C70DC42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D932-449C-4AE7-B8EE-B9BBE4F75FB4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AC08-8FD8-43DD-BAF7-E6D40CFAF04F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4508280"/>
            <a:ext cx="95169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Eurostile"/>
              </a:rPr>
              <a:t>Juergen K Knueppel MD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Eurostile"/>
              </a:rPr>
              <a:t>FAI-CIMP Issues  </a:t>
            </a:r>
            <a:r>
              <a:rPr b="0" lang="de-DE" sz="4000" spc="-1" strike="noStrike">
                <a:solidFill>
                  <a:srgbClr val="000000"/>
                </a:solidFill>
                <a:latin typeface="Eurostile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Eurostile"/>
              </a:rPr>
              <a:t>-commission internationale medico physiologique-</a:t>
            </a:r>
            <a:endParaRPr b="0" lang="en-US" sz="1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9800" y="1052280"/>
            <a:ext cx="94042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Flight Safety Data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Human Factors, Request for competent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Accident Investigation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Advise to Commissions,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ICAO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Proactive Flight Safty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 Initiativ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 TUE Pannel  -  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necessary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Eurostile"/>
              </a:rPr>
              <a:t>“Doping“ waivor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oblem:(“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older”) athletes taking already for year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quired medicine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Answe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lated questions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 anytim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: Medical and Physiological expertis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300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EASA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Medical Licencing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Sporting Licence (FAA-SPL ?), </a:t>
            </a:r>
            <a:r>
              <a:rPr b="0" lang="de-DE" sz="1200" spc="-1" strike="noStrike">
                <a:solidFill>
                  <a:srgbClr val="000000"/>
                </a:solidFill>
                <a:latin typeface="Eurostile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Support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i.e. G-Forces, Oxygen, Emergency Plans, CISM, other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09:05:47Z</dcterms:modified>
  <cp:revision>484</cp:revision>
  <dc:subject/>
  <dc:title>Présentation PowerPoint</dc:title>
</cp:coreProperties>
</file>