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A4EBB-3A72-4C82-AAE4-BF665881D3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88E2-4BCC-438D-8B57-AB1716BDAD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9B500-B0A0-46E4-9CA1-5A86294AC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A2B4D-19D8-4B54-A2EF-9D99DE59E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4AEEC-B890-4997-9BB4-ED2FCEBA8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45046-553E-4D9B-A9B4-E364F845E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4ED30-0B86-4933-A240-A751AE622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E0EF2-FC6C-4645-BB26-686E50398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13D1C-7094-42F7-8FB5-E934A5D87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F4E1D-336D-49A4-BB95-0874A731C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2EDA4-B9A0-4917-ABB0-B1D305FDE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47611-BDB6-45BF-BB18-6885947C6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E1A5B-A5CC-4F03-A8FC-7A62B06EA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E61F9-85BF-4867-9D7B-849559681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16FC-9C40-4B1A-B6D6-ED00BE21A2F4}" type="datetime">
              <a:rPr b="1" lang="fr-FR" sz="1200" spc="-1" strike="noStrike">
                <a:solidFill>
                  <a:srgbClr val="000000"/>
                </a:solidFill>
                <a:latin typeface="Arial"/>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95BD-96F4-45DD-A9C6-A821B2333443}"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EF2610F3-9B2C-41C2-9DF6-C8A7A184C59F}" type="datetime">
              <a:rPr b="1" lang="fr-FR" sz="1200" spc="-1" strike="noStrike">
                <a:solidFill>
                  <a:srgbClr val="000000"/>
                </a:solidFill>
                <a:latin typeface="Arial"/>
              </a:rPr>
              <a:t>28/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