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C1CC-17A3-4F13-95B5-22ED7AD70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0F70-F28E-4F0A-9EB5-9127928E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A26E-96D0-4162-ADE0-8D2442D3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6167-968F-484D-8533-FF965B8A7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933D-6D66-49E2-8526-363FC4C0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C82D-2E81-401B-BF45-21DF0E00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493D-B2A5-446E-A2AA-A21BC2F4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458E-49E1-44AA-A48C-E9FEAEEE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5C9D-1A64-4ADD-98BC-3B924B11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7556-B313-47A2-A8F6-3289DC8C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9377-F2F0-49D5-8E99-6A8AA9EF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A7DE-008C-4B4D-AF16-025DD7CC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F4C3-0401-4AE1-AC1A-498D1B6508A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ada-bonn.de/" TargetMode="External"/><Relationship Id="rId2" Type="http://schemas.openxmlformats.org/officeDocument/2006/relationships/hyperlink" Target="http://www.nadamed.de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7487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FAI Anti-Doping in Airsports 2013</a:t>
            </a:r>
            <a:br>
              <a:rPr sz="4000"/>
            </a:br>
            <a:br>
              <a:rPr sz="40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Aspects of the WADA Policy</a:t>
            </a:r>
            <a:br>
              <a:rPr sz="28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How do I find Info about forbidden medication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450864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Juergen K Knuep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sident FAI Medico-Physiological Com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64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4284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124000" y="981000"/>
            <a:ext cx="48974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ff"/>
                </a:solidFill>
                <a:latin typeface="Arial"/>
              </a:rPr>
              <a:t>Comments,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3333ff"/>
                </a:solidFill>
                <a:latin typeface="Arial"/>
              </a:rPr>
              <a:t>?       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6164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sic WADA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lympic Committee, UNES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overnments, NADO, Intern. Fed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rovide a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ealth 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ict Liability RULE 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&gt; Athletes, Trainer,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EGAL IMPLICATIONS: “Club Contract“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national law applied! – CAS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(Abrbitrat. Cou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bserve Princi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try to use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common sense 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ad and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understand: WADA COD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ll Sports are treated equally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PLIANCE: otherwise no support, no subsid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champ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ll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thletes are basically teste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for all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he same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UT of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TP: Registered Test Pool (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sk Assessme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. Reputatio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. Price-Money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. Known Drug Us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. Options for Perform. Enha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14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Basic WADA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rict Liability RULE“ 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(keine Unschuldsvermutung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No national law a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ll Sports are treated eq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128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thletes are tested </a:t>
            </a: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ll for the same substanc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ll have to sign “COMPLIANC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therwise no support, no subs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UT of Competition (RTP 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Points to think ab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thlete´s Intention to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i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se of options for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creasing pre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ilita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Aviatio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sto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Stimu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ttitu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of seniors and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ifferenc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in Spor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i.e.  Golf vs Cyc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ritique on Web: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uman Rights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DA System in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mmon Sense“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What to do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25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M,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ti Dopi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mmiss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(5/elect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ear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(3 /lawj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Secretariat &gt;&gt;&gt; </a:t>
            </a: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MIN only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t. Fed. Anti Doping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U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AMS 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oper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B-Info Page (www.WADA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3280" y="162864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ai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a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vent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ld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blem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gistered Test 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ot Spots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erience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ssign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op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ney,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&amp;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ADO Co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Strategic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wareness of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ad 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WAD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lect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competent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Develop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pecific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ederation AD-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ways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uppor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Ath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At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Information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59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993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Arial"/>
              </a:rPr>
              <a:t>i.e.: References German NADA </a:t>
            </a:r>
            <a:br>
              <a:rPr sz="4000"/>
            </a:b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0228 / 812 92  1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Prohibited List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german / 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nada-bonn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Medication-Data-Bank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–onlin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adamed.d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auch Iphone-Ap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Taschenk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7:48:11Z</dcterms:created>
  <dc:creator>Fustis</dc:creator>
  <dc:description/>
  <dc:language>en-US</dc:language>
  <cp:lastModifiedBy>Fustis</cp:lastModifiedBy>
  <dcterms:modified xsi:type="dcterms:W3CDTF">2014-05-08T09:15:36Z</dcterms:modified>
  <cp:revision>38</cp:revision>
  <dc:subject/>
  <dc:title>World Anti Doping ISSUES  2012</dc:title>
</cp:coreProperties>
</file>