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B5E6-6BFF-48B4-B131-75585416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1F36-CA64-4BAA-B54B-CB0F424D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06D7-1B14-47FD-834F-2CF00FB8F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F971-8ACE-4C1B-92C2-F22CED23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0CAD-79FD-4DEA-839D-0AE7ED2B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A511-FCEE-42FA-B8F7-79235FDE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F909-1DD9-411A-BB73-CDB98F49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2208-17F0-46D4-8234-CB3DFCE5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A8404-1C5F-4BE1-B6BE-1B89B29A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2707-A410-4F69-9AC2-EF964CE3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AC82-A4C3-4EDF-B44A-B6811E09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21BD-63A2-496C-B75B-3670485F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34C8-88CA-420C-9751-5D4BFD9D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6AA5-D1AD-4169-BF4A-47098981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A25F-4244-4140-83F5-A74E12CD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7BC3-5C43-47E8-A994-C532BA58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26BD-A0CB-4373-AEC4-E91F3FED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9608-FA8B-4BAA-A1F5-AD0F0B06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8A7E-1CBC-449D-87DB-5C0EE844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33D1-0A07-4932-A01A-13513C4D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52BA-C0FF-4C2F-95F8-198A1049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0215-702C-43F2-9755-7B701F37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34C5-B455-48A1-99A1-52F58717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BCB2-630B-45C9-A595-4ADBFB61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8698-C8C9-401D-AF8F-BBB17DDB77B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2F3A-130C-4AB8-BA1A-64EFD39E19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2332-6DE7-4B75-AD01-58DC902C209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DB5A-3908-46E9-B2EA-78748A5CD0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eskisilla.ee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2276280"/>
            <a:ext cx="7777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cbcbcb"/>
                </a:solidFill>
                <a:latin typeface="Tahoma"/>
              </a:rPr>
              <a:t>European Paramotor Championships 2013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549360"/>
            <a:ext cx="234000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9280" y="69048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Estoni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Aerospor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cbcb"/>
                </a:solidFill>
                <a:latin typeface="Tahoma"/>
              </a:rPr>
              <a:t>Feder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4120" y="5191200"/>
            <a:ext cx="7227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t-EE" sz="2400" spc="-1" strike="noStrike">
                <a:solidFill>
                  <a:srgbClr val="000000"/>
                </a:solidFill>
                <a:latin typeface="Tahoma"/>
              </a:rPr>
              <a:t>ORGANIZ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Tahoma"/>
              </a:rPr>
              <a:t>Estonian Paragliding &amp; Paramotoring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4720" y="37519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3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M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2.</a:t>
            </a: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 June 20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439956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Tahoma"/>
              </a:rPr>
              <a:t>Location: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üri, Esto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443640" y="512640"/>
            <a:ext cx="2016000" cy="1509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11280" y="3860640"/>
            <a:ext cx="2340000" cy="10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54E4-35B7-4716-9C47-A640F051C85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E05E589-541B-4982-A651-4468E96740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Weathe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,6 m/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rature average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– 15 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d of May daytime high temperature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n mid Estoni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en reach 25 C and over. Mean time night temperatures can be quite calm, even below 10 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h difference may crea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rong thermals in midday, resulting usually in a non-flyable weather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pproximate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12.00 to 16.00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time of the year Estonia is known by white nights, which means excellent flying conditions early in the morning (from 4.00) and late in the evening (until 22.00)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th utilizing the best flying weather available, it will be possible to provi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quite strange but ver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ble program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stead of exhaustive parawaiting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t midday it is possible to revert day and night - to sleep mainly at daytime and to be effective in competition flying at evenings and early mornings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A927-3F85-43C3-A8B7-A87B61AE075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9AD9F-F098-415C-AB71-11279BC25E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Dat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rival, registration, inspection &amp; train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3. – 24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irst competition briefing, opening ceremony &amp; welcome dinner: 25. Ma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ompetition flying days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6. May –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Party: 1.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Closing ceremony &amp; Prizegiving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2. Septemb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99B1-4155-4ABD-897B-55CC93E45E7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B52EA-BDD9-4EC7-A033-D90D8057162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040360" y="4549680"/>
            <a:ext cx="4103640" cy="230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9889-5EC3-4613-8DA2-823345BA438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F725C-F297-40E8-9CF2-C65DBD29D13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Offici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D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Ott Maaten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natas Samulenas L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uty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mp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ti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ct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esa Subiceva L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oring Manag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lari Ilves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Marshall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are Vanari E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ternational Jury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reward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onit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be def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Main personnel is selected from the most competent of Baltic States. They all have significant paramotoring background as pilots and/or as organizers and teamleaders at many local and international paramotor competitions in recent year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C837-1063-4E20-8271-72336E7ACDE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E1718-2970-4FB8-B7EF-673FE245E0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Clas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motors: PF1 &amp; PF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Paratrikes: PL1 &amp; PL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4CAF-93A7-44D5-AC9E-9172988512A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7CCB1-8F32-498E-A7FB-01D88DDB9B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1B65-AFC8-4F28-95BD-80C0507D971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44C13-3B3B-42F1-B19A-245EC2959F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Med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PC Media Service will be established to deal with all media services and public relatio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Special internet site will be set up for online news, information, pictures and videos uploading and sharing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Estonian most popular commercial TV channel “Kanal 2”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ll b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hole event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with specia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daily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TV new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ve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ge will 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rrang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port’s news of another commercial TV channel TV3 and in State Channel ETV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radio station “Kuma” will be pr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t daily with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liv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s </a:t>
            </a: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and new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BNS (Baltic News Service) agency will be provided with news by EPC Media Service daily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Video production will be organized for TV Special &amp; DVD releas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FF50-B5A5-442B-898E-79959431DB9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39AEA-DCE7-4B2C-B599-5F2FF5315F5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pilo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 for each co-pilot (navigator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 for each teamleader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100.- € for assistant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 fee for family and visitors, exept for party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 will be lowered by 50.- if payd before 1. March 2013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Entry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petition management (setting, organizing, controlling and evaluating the tasks,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isplaying the results, briefings, prizegiving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media coverag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etc.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l competition materials (maps, task description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, competition number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c.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ining day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arrangements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 (training task management etc.)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ee use of the airfield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Free entrance to all official events, including opening and closing ceremonies with corresponding parties and dinners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atherproof overnight storage for aircraft and equipment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vironmental fee (toilets and waste management)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DDF0-8BF3-4930-BA28-0B1B1D3CA99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0F093-FD0D-4C8D-85DE-77B09DC3539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3465360"/>
            <a:ext cx="4572000" cy="3392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340200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35640" cy="3465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58AE-6DC9-403A-A925-CE692C957C6E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8FB4D-B7DC-4B05-96DD-F3DC0BED08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Fe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30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for Accommodation &amp; Catering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50.- €/person in double or triple hotel room with TV,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300.- €/person in 4 bed motel room with common shower &amp; toilet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250.- €/person for camping (near the hotel) with shower &amp; toilet fascilities nearb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&amp; Catering fees includ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Accommodation from 23.05. to 2.06. with late checkout option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TV, Showers and toilets according to accommodation categor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reless internet co</a:t>
            </a: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verag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Use of hotel and motel briefingrooms, meetingrooms, task planning spaces &amp; partyhall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Reasonable use of saunas every evening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Breakfast, lunch and dinner every day, starting from the dinner on 23.05 evening until the breakfast on 2.06. morning, excluding party dinners after the opening and closing ceremonies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ffffff"/>
                </a:solidFill>
                <a:latin typeface="Arial"/>
              </a:rPr>
              <a:t>Pilot’s Special Package deal is valid also for teamleaders, assistants and family members upon availability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F306-8946-49F7-874A-C51283E047B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802C1-B708-411A-AF48-3D4AD2ADCD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9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Inde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Ven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Offici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Cl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Fe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5867280" cy="49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6F3A-9178-4713-A820-84EE5945E26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E3A8A-B699-48ED-8229-5B05E2A6C5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64160" y="3429000"/>
            <a:ext cx="2679840" cy="3429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3446640"/>
            <a:ext cx="6443640" cy="341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71636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1FD1-115D-486E-8F81-403517959379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BCA99-73B7-4D95-83DF-F90A4FE5A6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7628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74320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Times New Roman"/>
              </a:rPr>
              <a:t>info@eppa.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84360" y="411336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34E1-B942-4EB6-8A8B-9B40D554FCB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D3689-359B-4A8C-AE1E-CF926CD060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CB5-489E-408A-93B1-72C82434E834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98CAA-26FA-449B-AD0E-1F6A29E3B9F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re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h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 of Estoni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 near small town Tür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tive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ope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scapes with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un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fe landing op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erved exclusively for EPC 2013 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o other flying activities in the area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of no-flying zone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ight restrictions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ir traffic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Area with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 population densit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a small town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Tü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frastructure nearby</a:t>
            </a:r>
            <a:r>
              <a:rPr b="0" lang="et-EE" sz="2800" spc="-1" strike="noStrike">
                <a:solidFill>
                  <a:srgbClr val="ffffff"/>
                </a:solidFill>
                <a:latin typeface="Arial"/>
              </a:rPr>
              <a:t> (2 k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7421-6493-46C9-B95F-27693193A64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2F3D5-DFA3-414E-9BFA-4990F689800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16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5400" spc="-1" strike="noStrike">
                <a:solidFill>
                  <a:srgbClr val="000000"/>
                </a:solidFill>
                <a:latin typeface="Tahoma"/>
              </a:rPr>
              <a:t>Venue / Ar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9D36-2410-4B6A-BD8F-5B4FDFB2A06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EA7A3-1268-4FD7-A22D-22E3636CA3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297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0" lang="et-EE" sz="4000" spc="-1" strike="noStrike">
                <a:solidFill>
                  <a:srgbClr val="cbcbcb"/>
                </a:solidFill>
                <a:latin typeface="Times New Roman"/>
              </a:rPr>
              <a:t>	</a:t>
            </a: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irfield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4000" y="873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oordinates: 58°49`06.00"N  25°28`35.00"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640" y="4113360"/>
            <a:ext cx="799308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Elevation: 62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Main field size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0x400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Quality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sh clover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ield</a:t>
            </a: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 with no paved airstri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Distance to accommodation: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ffffff"/>
                </a:solidFill>
                <a:latin typeface="Arial"/>
              </a:rPr>
              <a:t>Nearest town: Türi, 2 k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6F78-E2D9-4B1E-B370-362E6F43401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9EF7D-AE95-4CFC-B169-A2CCB6035B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cbcbcb"/>
                </a:solidFill>
                <a:latin typeface="Times New Roman"/>
              </a:rPr>
              <a:t>Venue / Accommoda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tel “Veskisilla” (meaning “Millbridge”), a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ld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estored w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l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omepage: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t-EE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veskisilla.ee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Location: Türi-Alliku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i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, 1 km from Türi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ide,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100 km 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tu, 100 km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llinn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erved exclusively for EPC 2013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 places in h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places in motel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limited places for camping with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noug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wers, saunas and toilets 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ge catering and party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l for over 200 people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 sauna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lot of rooms and spaces for briefings and meetings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Wireless internet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support</a:t>
            </a: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Alternative activities for bad weather availabl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B69B-0FEC-486F-90CB-A8D99410509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FE6E9-2D31-46C9-8E48-2098FF8C06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247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9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8293-089D-4038-A34D-C52F4150A2E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03BB9-CFB6-4334-80DC-AD65DA5AA3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6360" y="404640"/>
            <a:ext cx="7920000" cy="5940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4360" y="5157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6600" spc="-1" strike="noStrike">
                <a:solidFill>
                  <a:srgbClr val="cbcbcb"/>
                </a:solidFill>
                <a:latin typeface="Tahoma"/>
              </a:rPr>
              <a:t>Veskisill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5917-1780-4DF8-ACAB-F27A6A60124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17CB9-6E0F-4214-BEDC-97FB5E88E7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ell</cp:lastModifiedBy>
  <dcterms:modified xsi:type="dcterms:W3CDTF">2011-11-10T15:48:0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