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490D-22E8-4AB4-A467-F29A8AC4C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13E3-E69D-4D3A-BE30-1575A2351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2213-D870-4A91-9782-B2E07AA3F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9F54-5BDE-4F6D-8B20-FA54658B7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B22B-39F5-4D6B-B318-9038C3A6C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7E25-984D-44E5-89D6-5C929053A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0542-09F5-4D14-A3F2-461D74D0C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49BA-116A-4BB1-B3FF-F56B30F27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C6BB-1268-47D4-822F-BF1C15AA2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8BB1-A99B-4E6A-950F-D819390AE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EC6B-011E-44FA-9C14-161AFABF4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A464-159A-474F-B4AC-EE2B12A6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1F6A3-58EA-4BF3-BB32-8132FEF2D686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-14400"/>
            <a:ext cx="9158400" cy="6872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0" y="0"/>
            <a:ext cx="9180000" cy="6884640"/>
            <a:chOff x="0" y="0"/>
            <a:chExt cx="9180000" cy="688464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9180000" cy="6884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ffffff"/>
                  </a:solidFill>
                  <a:latin typeface="Arial"/>
                </a:rPr>
                <a:t>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1"/>
            <a:stretch/>
          </p:blipFill>
          <p:spPr>
            <a:xfrm>
              <a:off x="1303200" y="112680"/>
              <a:ext cx="6527160" cy="67276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477800" y="330120"/>
            <a:ext cx="6191280" cy="619452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98480" y="2349360"/>
            <a:ext cx="568188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ffffff"/>
                </a:solidFill>
                <a:latin typeface="Arial"/>
              </a:rPr>
              <a:t>Thank you for your attention</a:t>
            </a:r>
            <a:br>
              <a:rPr sz="2500"/>
            </a:br>
            <a:br>
              <a:rPr sz="2500"/>
            </a:br>
            <a:r>
              <a:rPr b="0" lang="fr-FR" sz="2500" spc="-1" strike="noStrike">
                <a:solidFill>
                  <a:srgbClr val="ffffff"/>
                </a:solidFill>
                <a:latin typeface="Arial"/>
              </a:rPr>
              <a:t>See you in September 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fr-FR" sz="2500" spc="-1" strike="noStrike">
                <a:solidFill>
                  <a:srgbClr val="ffffff"/>
                </a:solidFill>
                <a:latin typeface="Arial"/>
              </a:rPr>
              <a:t>over Geneva</a:t>
            </a:r>
            <a:r>
              <a:rPr b="0" lang="fr-FR" sz="2500" spc="-1" strike="noStrike">
                <a:solidFill>
                  <a:srgbClr val="ffffff"/>
                </a:solidFill>
                <a:latin typeface="Arial"/>
              </a:rPr>
              <a:t>” !</a:t>
            </a:r>
            <a:br>
              <a:rPr sz="2500"/>
            </a:br>
            <a:br>
              <a:rPr sz="30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-14400"/>
            <a:ext cx="9158400" cy="6872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0" y="0"/>
            <a:ext cx="9180000" cy="6884640"/>
            <a:chOff x="0" y="0"/>
            <a:chExt cx="9180000" cy="6884640"/>
          </a:xfrm>
        </p:grpSpPr>
        <p:sp>
          <p:nvSpPr>
            <p:cNvPr id="135" name=""/>
            <p:cNvSpPr/>
            <p:nvPr/>
          </p:nvSpPr>
          <p:spPr>
            <a:xfrm>
              <a:off x="0" y="0"/>
              <a:ext cx="9180000" cy="6884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ffffff"/>
                  </a:solidFill>
                  <a:latin typeface="Arial"/>
                </a:rPr>
                <a:t>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1"/>
            <a:stretch/>
          </p:blipFill>
          <p:spPr>
            <a:xfrm>
              <a:off x="1303200" y="112680"/>
              <a:ext cx="6527160" cy="67276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-14400"/>
            <a:ext cx="9158400" cy="6872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76360" y="836640"/>
            <a:ext cx="5830920" cy="58341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47640" y="2563920"/>
            <a:ext cx="56818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80"/>
                </a:solidFill>
                <a:latin typeface="Arial"/>
              </a:rPr>
              <a:t>From Friday September 4th 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80"/>
                </a:solidFill>
                <a:latin typeface="Arial"/>
              </a:rPr>
              <a:t>Saturday September 12th, 2009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554120" y="3789360"/>
            <a:ext cx="56818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Centre Sportif de Vessy – City of Geneva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4508640"/>
            <a:ext cx="56818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Hôtel Ramada Encore La Prail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1520" y="6329520"/>
            <a:ext cx="22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528480" y="260280"/>
          <a:ext cx="8291520" cy="586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260280"/>
                    <a:ext cx="8291520" cy="586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2411280" y="4437000"/>
            <a:ext cx="936720" cy="93672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300720" y="3573360"/>
            <a:ext cx="936720" cy="93672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258920" y="4005360"/>
            <a:ext cx="1152360" cy="64764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7092720" y="2852640"/>
            <a:ext cx="1006200" cy="7923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0920" y="3357720"/>
            <a:ext cx="1008000" cy="641520"/>
          </a:xfrm>
          <a:prstGeom prst="rect">
            <a:avLst/>
          </a:prstGeom>
          <a:solidFill>
            <a:srgbClr val="ffffff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Hôtel Ramada</a:t>
            </a:r>
            <a:br>
              <a:rPr sz="1200"/>
            </a:b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La Prai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28000" y="2205000"/>
            <a:ext cx="1008000" cy="641520"/>
          </a:xfrm>
          <a:prstGeom prst="rect">
            <a:avLst/>
          </a:prstGeom>
          <a:solidFill>
            <a:srgbClr val="ffffff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Centre sportif</a:t>
            </a:r>
            <a:br>
              <a:rPr sz="1200"/>
            </a:b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de Vess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4920" y="189000"/>
            <a:ext cx="9074160" cy="6472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476360" y="836640"/>
            <a:ext cx="5830920" cy="5832360"/>
            <a:chOff x="1476360" y="836640"/>
            <a:chExt cx="5830920" cy="5832360"/>
          </a:xfrm>
        </p:grpSpPr>
        <p:sp>
          <p:nvSpPr>
            <p:cNvPr id="73" name=""/>
            <p:cNvSpPr/>
            <p:nvPr/>
          </p:nvSpPr>
          <p:spPr>
            <a:xfrm>
              <a:off x="1476360" y="836640"/>
              <a:ext cx="5830920" cy="583236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46200" y="2421720"/>
              <a:ext cx="5681880" cy="273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995480" y="290196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City Welcome Party    4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       7:30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56000" y="155736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ff0000"/>
                </a:solidFill>
                <a:latin typeface="Arial"/>
              </a:rPr>
              <a:t>Event Master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11280" y="213372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Pilot registration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4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9am-4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411280" y="250992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General Briefing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4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4pm-6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46200" y="386064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Inflation balloons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5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1pm-6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40080" y="349092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Preflight Briefing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5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10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449440" y="424332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Launch Window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5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10pm onw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67080" y="4529160"/>
            <a:ext cx="41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(until Wednesday </a:t>
            </a: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9.09</a:t>
            </a: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11:59p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3600" y="501660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Awards Banquet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12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 6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5280" y="6381720"/>
            <a:ext cx="2360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77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770" fill="hold"/>
                                        <p:tgtEl>
                                          <p:spTgt spid="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77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" dur="770" fill="hold"/>
                                        <p:tgtEl>
                                          <p:spTgt spid="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77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770" fill="hold"/>
                                        <p:tgtEl>
                                          <p:spTgt spid="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" dur="77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77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" dur="770" fill="hold"/>
                                        <p:tgtEl>
                                          <p:spTgt spid="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7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9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77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6" dur="770" fill="hold"/>
                                        <p:tgtEl>
                                          <p:spTgt spid="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" dur="77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" dur="77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77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" dur="770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77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4" dur="770" fill="hold"/>
                                        <p:tgtEl>
                                          <p:spTgt spid="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6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8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476360" y="779400"/>
            <a:ext cx="5830920" cy="5833800"/>
            <a:chOff x="1476360" y="779400"/>
            <a:chExt cx="5830920" cy="5833800"/>
          </a:xfrm>
        </p:grpSpPr>
        <p:sp>
          <p:nvSpPr>
            <p:cNvPr id="92" name=""/>
            <p:cNvSpPr/>
            <p:nvPr/>
          </p:nvSpPr>
          <p:spPr>
            <a:xfrm>
              <a:off x="1476360" y="779400"/>
              <a:ext cx="5830920" cy="58338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46200" y="2365200"/>
              <a:ext cx="5681880" cy="273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Registred NAC’s acceptance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USA               3</a:t>
              </a:r>
              <a:br>
                <a:rPr sz="2500"/>
              </a:b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France           2</a:t>
              </a:r>
              <a:br>
                <a:rPr sz="2500"/>
              </a:b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Finland           1</a:t>
              </a:r>
              <a:br>
                <a:rPr sz="2500"/>
              </a:b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Belgium          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Switzerland    3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Germany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Great-Britain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Austria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24000" y="6338880"/>
            <a:ext cx="2108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477800" y="835200"/>
            <a:ext cx="5830920" cy="5833800"/>
            <a:chOff x="1477800" y="835200"/>
            <a:chExt cx="5830920" cy="5833800"/>
          </a:xfrm>
        </p:grpSpPr>
        <p:sp>
          <p:nvSpPr>
            <p:cNvPr id="102" name=""/>
            <p:cNvSpPr/>
            <p:nvPr/>
          </p:nvSpPr>
          <p:spPr>
            <a:xfrm>
              <a:off x="1477800" y="835200"/>
              <a:ext cx="5830920" cy="5833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547640" y="2781360"/>
              <a:ext cx="5681880" cy="17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Deadline for Pilots registration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600" spc="-1" strike="noStrike">
                  <a:solidFill>
                    <a:srgbClr val="ffffff"/>
                  </a:solidFill>
                  <a:latin typeface="Arial"/>
                </a:rPr>
                <a:t>Thursday April 30th, 2009</a:t>
              </a:r>
              <a:r>
                <a:rPr b="1" lang="fr-FR" sz="3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br>
                <a:rPr sz="3000"/>
              </a:br>
              <a:br>
                <a:rPr sz="3000"/>
              </a:b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Including payment of the entry fe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95280" y="6343560"/>
            <a:ext cx="2144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477800" y="835200"/>
            <a:ext cx="5830920" cy="58338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47640" y="2708280"/>
            <a:ext cx="568188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80"/>
                </a:solidFill>
                <a:latin typeface="Arial"/>
              </a:rPr>
              <a:t>Competition Organisation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80"/>
                </a:solidFill>
                <a:latin typeface="Arial"/>
              </a:rPr>
              <a:t>Mr. Markus Hagge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80"/>
                </a:solidFill>
                <a:latin typeface="Arial"/>
              </a:rPr>
              <a:t>  </a:t>
            </a:r>
            <a:r>
              <a:rPr b="0" lang="fr-FR" sz="3600" spc="-1" strike="noStrike">
                <a:solidFill>
                  <a:srgbClr val="000080"/>
                </a:solidFill>
                <a:latin typeface="Arial"/>
              </a:rPr>
              <a:t>Event Director</a:t>
            </a:r>
            <a:br>
              <a:rPr sz="3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76200" y="6269040"/>
            <a:ext cx="203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477800" y="835200"/>
            <a:ext cx="5830920" cy="5833800"/>
            <a:chOff x="1477800" y="835200"/>
            <a:chExt cx="5830920" cy="5833800"/>
          </a:xfrm>
        </p:grpSpPr>
        <p:sp>
          <p:nvSpPr>
            <p:cNvPr id="121" name=""/>
            <p:cNvSpPr/>
            <p:nvPr/>
          </p:nvSpPr>
          <p:spPr>
            <a:xfrm>
              <a:off x="1477800" y="835200"/>
              <a:ext cx="5830920" cy="583380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47640" y="1366920"/>
              <a:ext cx="5681880" cy="414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br>
                <a:rPr sz="12000"/>
              </a:br>
              <a:endParaRPr b="0" lang="en-US" sz="30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38040" y="6270480"/>
            <a:ext cx="225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10:43:07Z</dcterms:created>
  <dc:creator>Militza Bodi</dc:creator>
  <dc:description/>
  <dc:language>en-US</dc:language>
  <cp:lastModifiedBy>Alex Nagorski</cp:lastModifiedBy>
  <dcterms:modified xsi:type="dcterms:W3CDTF">2009-04-25T03:20:05Z</dcterms:modified>
  <cp:revision>41</cp:revision>
  <dc:subject/>
  <dc:title>Diapositive 1</dc:title>
</cp:coreProperties>
</file>