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48F5B-7A0F-4628-840C-78CB7590548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8C2A3-9BAB-420E-A918-0388FC080E9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49492-55BB-4C1C-9B73-70EDBDF010F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1065B-7F98-49CC-AD37-DE92B539C1F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21588-13D1-4700-B6DD-8B9FBADC5A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3BD68-10F3-42EE-98BF-05D8CFE8B87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36532-BC55-4ECC-8DE2-8E8E11ACFA2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3FA5D-C96F-43D4-9878-C0C6F5AB4BA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00B5F-9688-4BF1-BC79-A6F5B244721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A8A05-F56F-4F34-BD58-F8BC8FE4C7D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D3109-F32E-4FD0-B713-564DE87F50A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6C923-06CC-4F83-954A-C886E24C3CE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1434600"/>
            <a:ext cx="7366320" cy="1714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Click to edit the title text format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8840" y="3771720"/>
            <a:ext cx="7366320" cy="1307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Click to edit the outline text format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1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con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2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Thir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3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our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4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if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ix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ven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873600" y="3301920"/>
            <a:ext cx="14335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5308560" y="1866960"/>
            <a:ext cx="33019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78000"/>
          </a:bodyPr>
          <a:p>
            <a:pPr marL="39600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6348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3096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19844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533160" y="520200"/>
            <a:ext cx="8064360" cy="582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602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602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90000"/>
          </a:bodyPr>
          <a:p>
            <a:pPr marL="5940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90288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2114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51992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4240" y="97740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44240" y="361908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7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1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2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3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4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977760" y="3429000"/>
            <a:ext cx="270828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7716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1016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244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7544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0772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5168520"/>
            <a:ext cx="806436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2540160"/>
            <a:ext cx="8064360" cy="1777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D879-3E35-4A65-A41B-B718B05EA3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24092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VICHY 2012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XX° FAI Worlds Hot Air Balloon Championship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2541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160" y="192996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Vichy is situated in the center of France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3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2008 French Nationals was run in this city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1041480" indent="-444600">
              <a:spcBef>
                <a:spcPts val="38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51 pilots – 6 flights – 14 tasks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849240" y="968400"/>
            <a:ext cx="7442280" cy="55879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81080" y="135000"/>
            <a:ext cx="8648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Baskerville"/>
              </a:rPr>
              <a:t>2008 French Nationals General Briefing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4632480" y="1285920"/>
            <a:ext cx="3835080" cy="4356000"/>
            <a:chOff x="4632480" y="1285920"/>
            <a:chExt cx="3835080" cy="435600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4657680" y="1311480"/>
              <a:ext cx="3771360" cy="42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3"/>
            <a:stretch/>
          </p:blipFill>
          <p:spPr>
            <a:xfrm>
              <a:off x="4632480" y="1285920"/>
              <a:ext cx="3835080" cy="435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3886200" cy="29084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3480" y="3588840"/>
            <a:ext cx="3886200" cy="2667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briefing room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1 competitor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 flight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14 tasks</a:t>
            </a:r>
            <a:endParaRPr b="0" lang="en-US" sz="3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8" name=""/>
          <p:cNvSpPr/>
          <p:nvPr/>
        </p:nvSpPr>
        <p:spPr>
          <a:xfrm>
            <a:off x="4876920" y="228600"/>
            <a:ext cx="33271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launch field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622080"/>
            <a:ext cx="8356680" cy="2400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Entry fee including accommodation 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and meals for Pilot + 3 crew members: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between 500 to 1000 €, (B&amp;B or hotel)</a:t>
            </a:r>
            <a:endParaRPr b="0" lang="en-US" sz="4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88840" y="3873600"/>
            <a:ext cx="7366320" cy="2209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And of course: gas, maps (paper and electronic), pilot’s pack, opening and closing ceremony.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1608120" y="800280"/>
            <a:ext cx="6413400" cy="5626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39528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6bb"/>
                </a:solidFill>
                <a:latin typeface="Baskerville"/>
              </a:rPr>
              <a:t>2008 Competition Map – Few PZs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227640" y="3284640"/>
            <a:ext cx="720720" cy="93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91240" y="2730600"/>
            <a:ext cx="1447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Vichy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946080" y="831960"/>
            <a:ext cx="7581960" cy="56768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46836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1c18"/>
                </a:solidFill>
                <a:latin typeface="Baskerville"/>
              </a:rPr>
              <a:t>Large fields everywher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 2012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160" y="2196720"/>
            <a:ext cx="8064360" cy="245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Event Director: Eric Decelliere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103 Team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Observers &amp; Logger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946080" y="995400"/>
            <a:ext cx="7645320" cy="55497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446040" y="20484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Landscap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c Decellieres</dc:creator>
  <dc:description/>
  <cp:keywords/>
  <dc:language>en-US</dc:language>
  <cp:lastModifiedBy>Alex Nagorski</cp:lastModifiedBy>
  <dcterms:modified xsi:type="dcterms:W3CDTF">2009-04-25T03:20:56Z</dcterms:modified>
  <cp:revision>1</cp:revision>
  <dc:subject/>
  <dc:title>Diapositive 1</dc:title>
</cp:coreProperties>
</file>