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1.jpeg" ContentType="image/jpeg"/>
  <Override PartName="/ppt/media/image13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2FF9F-4E2A-479A-BE5B-5A45A0DF8FD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01238-F790-48C6-B3A5-6D225AEC9DF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6C497-EB11-4AE4-94F4-AB4875E5E51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73756-E75A-4B41-982C-9E059771AF0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15265-1473-4E7E-B07E-A46FA0665E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A6080-26EB-43DE-BF1F-5623817480A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1D59D-E35D-46C9-8A6F-FE807929D42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1DEC6-D80C-4C58-8892-BC44801AB631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70B0B-53F6-4A76-927C-5957DB87920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F9CC9-1C77-4412-9A9D-B3B010D605F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9D73E-24BD-4AC1-A2D5-7B2CD86711AE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A8082-7FA0-4CA6-96F2-943DF4180B4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88840" y="1434600"/>
            <a:ext cx="7366320" cy="17146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0955a"/>
                </a:solidFill>
                <a:latin typeface="Baskerville"/>
              </a:rPr>
              <a:t>Click to edit the title text format</a:t>
            </a:r>
            <a:endParaRPr b="0" lang="en-US" sz="54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88840" y="3771720"/>
            <a:ext cx="7366320" cy="1307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t">
            <a:normAutofit fontScale="32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Click to edit the outline text format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1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Second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2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Third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3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Fourth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4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Fifth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5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Sixth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6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Seventh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3873600" y="3301920"/>
            <a:ext cx="1433520" cy="26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533160" y="1866960"/>
            <a:ext cx="3746520" cy="4317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 fontScale="82000"/>
          </a:bodyPr>
          <a:p>
            <a:pPr marL="41652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1" marL="69768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2" marL="97884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3" marL="126000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4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5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6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5308560" y="1866960"/>
            <a:ext cx="3301920" cy="4317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 fontScale="78000"/>
          </a:bodyPr>
          <a:p>
            <a:pPr marL="39600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1" marL="663480" indent="-22788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2" marL="93096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3" marL="1198440" indent="-22788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4" marL="146592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5" marL="146592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6" marL="146592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533160" y="520200"/>
            <a:ext cx="8064360" cy="5829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/>
          </a:bodyPr>
          <a:p>
            <a:pPr marL="6602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1" marL="1003320" indent="-44460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2" marL="13460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3" marL="1689120" indent="-44460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4" marL="20318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5" marL="20318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6" marL="20318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533160" y="1942920"/>
            <a:ext cx="8064360" cy="4025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t">
            <a:normAutofit/>
          </a:bodyPr>
          <a:p>
            <a:pPr marL="6602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1" marL="1003320" indent="-444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2" marL="13460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3" marL="1689120" indent="-444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4" marL="20318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5" marL="20318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6" marL="20318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33160" y="1942920"/>
            <a:ext cx="8064360" cy="4025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 fontScale="90000"/>
          </a:bodyPr>
          <a:p>
            <a:pPr marL="59400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1" marL="902880" indent="-3999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2" marL="121140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3" marL="1519920" indent="-3999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4" marL="182844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5" marL="182844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6" marL="182844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44240" y="977400"/>
            <a:ext cx="3771720" cy="234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5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44240" y="3619080"/>
            <a:ext cx="3771720" cy="234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t">
            <a:normAutofit fontScale="79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1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2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3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4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5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6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977760" y="3429000"/>
            <a:ext cx="270828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677160" indent="-4305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1" marL="1010160" indent="-43092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2" marL="1342440" indent="-4305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3" marL="1675440" indent="-43092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4" marL="2007720" indent="-4305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5" marL="2007720" indent="-430560">
              <a:spcBef>
                <a:spcPts val="7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6" marL="2007720" indent="-430560">
              <a:spcBef>
                <a:spcPts val="7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160" y="5168520"/>
            <a:ext cx="8064360" cy="1104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56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160" y="2540160"/>
            <a:ext cx="8064360" cy="17776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56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876BF-BE33-4256-B7B4-4A0A8B2F227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533160" y="1866960"/>
            <a:ext cx="3746520" cy="4317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 fontScale="82000"/>
          </a:bodyPr>
          <a:p>
            <a:pPr marL="41652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1" marL="69768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2" marL="97884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3" marL="126000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4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5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6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1240920"/>
            <a:ext cx="7772400" cy="4800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0955a"/>
                </a:solidFill>
                <a:latin typeface="Baskerville"/>
              </a:rPr>
              <a:t>VICHY 2012</a:t>
            </a:r>
            <a:br>
              <a:rPr sz="5400"/>
            </a:br>
            <a:r>
              <a:rPr b="0" lang="en-US" sz="5400" spc="-1" strike="noStrike">
                <a:solidFill>
                  <a:srgbClr val="b0955a"/>
                </a:solidFill>
                <a:latin typeface="Baskerville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b0955a"/>
                </a:solidFill>
                <a:latin typeface="Baskerville"/>
              </a:rPr>
              <a:t>XX° FAI Worlds Hot Air Balloon Championship</a:t>
            </a:r>
            <a:endParaRPr b="0" lang="en-US" sz="5400" spc="-1" strike="noStrike">
              <a:solidFill>
                <a:srgbClr val="b0955a"/>
              </a:solidFill>
              <a:latin typeface="Baskervill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3160" y="2541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650"/>
                </a:solidFill>
                <a:latin typeface="Baskerville"/>
              </a:rPr>
              <a:t>Vichy</a:t>
            </a:r>
            <a:endParaRPr b="0" lang="en-US" sz="4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33160" y="1929960"/>
            <a:ext cx="8064360" cy="4025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/>
          </a:bodyPr>
          <a:p>
            <a:pPr marL="698400" indent="-444240">
              <a:spcBef>
                <a:spcPts val="18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Vichy is situated in the center of France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marL="698400" indent="-444240">
              <a:spcBef>
                <a:spcPts val="38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2008 French Nationals was run in this city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1" marL="1041480" indent="-444600">
              <a:spcBef>
                <a:spcPts val="38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51 pilots – 6 flights – 14 tasks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" descr=""/>
          <p:cNvPicPr/>
          <p:nvPr/>
        </p:nvPicPr>
        <p:blipFill>
          <a:blip r:embed="rId2"/>
          <a:stretch/>
        </p:blipFill>
        <p:spPr>
          <a:xfrm>
            <a:off x="849240" y="968400"/>
            <a:ext cx="7442280" cy="558792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181080" y="135000"/>
            <a:ext cx="86486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1d18"/>
                </a:solidFill>
                <a:latin typeface="Baskerville"/>
              </a:rPr>
              <a:t>2008 French Nationals General Briefing</a:t>
            </a:r>
            <a:endParaRPr b="0" lang="en-US" sz="36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"/>
          <p:cNvGrpSpPr/>
          <p:nvPr/>
        </p:nvGrpSpPr>
        <p:grpSpPr>
          <a:xfrm>
            <a:off x="4632480" y="1285920"/>
            <a:ext cx="3835080" cy="4356000"/>
            <a:chOff x="4632480" y="1285920"/>
            <a:chExt cx="3835080" cy="4356000"/>
          </a:xfrm>
        </p:grpSpPr>
        <p:pic>
          <p:nvPicPr>
            <p:cNvPr id="504" name="" descr=""/>
            <p:cNvPicPr/>
            <p:nvPr/>
          </p:nvPicPr>
          <p:blipFill>
            <a:blip r:embed="rId2"/>
            <a:stretch/>
          </p:blipFill>
          <p:spPr>
            <a:xfrm>
              <a:off x="4657680" y="1311480"/>
              <a:ext cx="3771360" cy="428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5" name="" descr=""/>
            <p:cNvPicPr/>
            <p:nvPr/>
          </p:nvPicPr>
          <p:blipFill>
            <a:blip r:embed="rId3"/>
            <a:stretch/>
          </p:blipFill>
          <p:spPr>
            <a:xfrm>
              <a:off x="4632480" y="1285920"/>
              <a:ext cx="3835080" cy="4356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6" name="" descr=""/>
          <p:cNvPicPr/>
          <p:nvPr/>
        </p:nvPicPr>
        <p:blipFill>
          <a:blip r:embed="rId4"/>
          <a:stretch/>
        </p:blipFill>
        <p:spPr>
          <a:xfrm>
            <a:off x="179280" y="260280"/>
            <a:ext cx="3886200" cy="2908440"/>
          </a:xfrm>
          <a:prstGeom prst="rect">
            <a:avLst/>
          </a:prstGeom>
          <a:ln w="0">
            <a:noFill/>
          </a:ln>
        </p:spPr>
      </p:pic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93480" y="3588840"/>
            <a:ext cx="3886200" cy="2667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Main briefing room</a:t>
            </a:r>
            <a:br>
              <a:rPr sz="3600"/>
            </a:b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51 competitors</a:t>
            </a:r>
            <a:br>
              <a:rPr sz="3600"/>
            </a:b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5 flights</a:t>
            </a:r>
            <a:br>
              <a:rPr sz="3600"/>
            </a:b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14 tasks</a:t>
            </a:r>
            <a:endParaRPr b="0" lang="en-US" sz="3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08" name=""/>
          <p:cNvSpPr/>
          <p:nvPr/>
        </p:nvSpPr>
        <p:spPr>
          <a:xfrm>
            <a:off x="4876920" y="228600"/>
            <a:ext cx="332712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Main launch field</a:t>
            </a:r>
            <a:endParaRPr b="0" lang="en-US" sz="36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95000" y="622080"/>
            <a:ext cx="8356680" cy="24001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0955a"/>
                </a:solidFill>
                <a:latin typeface="Baskerville"/>
              </a:rPr>
              <a:t>Entry fee including accommodation </a:t>
            </a:r>
            <a:br>
              <a:rPr sz="4000"/>
            </a:br>
            <a:r>
              <a:rPr b="0" lang="en-US" sz="4000" spc="-1" strike="noStrike">
                <a:solidFill>
                  <a:srgbClr val="b0955a"/>
                </a:solidFill>
                <a:latin typeface="Baskerville"/>
              </a:rPr>
              <a:t>and meals for Pilot + 3 crew members:</a:t>
            </a:r>
            <a:br>
              <a:rPr sz="4000"/>
            </a:br>
            <a:r>
              <a:rPr b="0" lang="en-US" sz="4000" spc="-1" strike="noStrike">
                <a:solidFill>
                  <a:srgbClr val="b0955a"/>
                </a:solidFill>
                <a:latin typeface="Baskerville"/>
              </a:rPr>
              <a:t>between 500 to 1000 €, (B&amp;B or hotel)</a:t>
            </a:r>
            <a:endParaRPr b="0" lang="en-US" sz="4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888840" y="3873600"/>
            <a:ext cx="7366320" cy="22096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And of course: gas, maps (paper and electronic), pilot’s pack, opening and closing ceremony.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" descr=""/>
          <p:cNvPicPr/>
          <p:nvPr/>
        </p:nvPicPr>
        <p:blipFill>
          <a:blip r:embed="rId2"/>
          <a:stretch/>
        </p:blipFill>
        <p:spPr>
          <a:xfrm>
            <a:off x="1608120" y="800280"/>
            <a:ext cx="6413400" cy="562608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/>
          <p:nvPr/>
        </p:nvSpPr>
        <p:spPr>
          <a:xfrm>
            <a:off x="395280" y="103320"/>
            <a:ext cx="82422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6bb"/>
                </a:solidFill>
                <a:latin typeface="Baskerville"/>
              </a:rPr>
              <a:t>2008 Competition Map – Few PZs</a:t>
            </a:r>
            <a:endParaRPr b="0" lang="en-US" sz="4000" spc="-1" strike="noStrike">
              <a:solidFill>
                <a:srgbClr val="59565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6227640" y="3284640"/>
            <a:ext cx="720720" cy="936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591240" y="2730600"/>
            <a:ext cx="14479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71d18"/>
                </a:solidFill>
                <a:latin typeface="Baskerville"/>
              </a:rPr>
              <a:t>Vichy</a:t>
            </a:r>
            <a:endParaRPr b="0" lang="en-US" sz="40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" descr=""/>
          <p:cNvPicPr/>
          <p:nvPr/>
        </p:nvPicPr>
        <p:blipFill>
          <a:blip r:embed="rId2"/>
          <a:stretch/>
        </p:blipFill>
        <p:spPr>
          <a:xfrm>
            <a:off x="946080" y="831960"/>
            <a:ext cx="7581960" cy="567684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468360" y="103320"/>
            <a:ext cx="82422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81c18"/>
                </a:solidFill>
                <a:latin typeface="Baskerville"/>
              </a:rPr>
              <a:t>Large fields everywhere</a:t>
            </a:r>
            <a:endParaRPr b="0" lang="en-US" sz="40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650"/>
                </a:solidFill>
                <a:latin typeface="Baskerville"/>
              </a:rPr>
              <a:t>Vichy 2012</a:t>
            </a:r>
            <a:endParaRPr b="0" lang="en-US" sz="4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33160" y="2196720"/>
            <a:ext cx="8064360" cy="2451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t">
            <a:normAutofit/>
          </a:bodyPr>
          <a:p>
            <a:pPr marL="698400" indent="-444240">
              <a:spcBef>
                <a:spcPts val="18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Event Director: Eric Decellieres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marL="698400" indent="-444240">
              <a:spcBef>
                <a:spcPts val="18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103 Teams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marL="698400" indent="-444240">
              <a:spcBef>
                <a:spcPts val="18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Observers &amp; Loggers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" descr=""/>
          <p:cNvPicPr/>
          <p:nvPr/>
        </p:nvPicPr>
        <p:blipFill>
          <a:blip r:embed="rId2"/>
          <a:stretch/>
        </p:blipFill>
        <p:spPr>
          <a:xfrm>
            <a:off x="946080" y="995400"/>
            <a:ext cx="7645320" cy="554976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446040" y="204840"/>
            <a:ext cx="82422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71d18"/>
                </a:solidFill>
                <a:latin typeface="Baskerville"/>
              </a:rPr>
              <a:t>Landscape</a:t>
            </a:r>
            <a:endParaRPr b="0" lang="en-US" sz="40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c Decellieres</dc:creator>
  <dc:description/>
  <cp:keywords/>
  <dc:language>en-US</dc:language>
  <cp:lastModifiedBy>Alex Nagorski</cp:lastModifiedBy>
  <dcterms:modified xsi:type="dcterms:W3CDTF">2009-04-25T03:20:56Z</dcterms:modified>
  <cp:revision>1</cp:revision>
  <dc:subject/>
  <dc:title>Diapositive 1</dc:title>
</cp:coreProperties>
</file>