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A940-C695-45D4-8AA9-90AC81CE1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0DAF-0594-4D4A-9FFE-5EBCD5B5F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8866-E312-48B3-A8BB-D88D65F6C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E43A-9BCF-42DC-8654-11B590A49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6943B-B85D-4889-B30D-18E5B3BB7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333D2-8E16-4B8F-96C7-C7895359E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CF0B4-80A1-4D8F-8F75-841610DBF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8B227-D3DC-4445-B9FE-3CC0A6F67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B7747-6336-486A-B164-D9D97F81F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F5000-9BF2-4DEC-8253-BBB3322A3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30758-0B17-4208-A61A-53D473CC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F52A-A71A-4A43-9B7A-09C8B2478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2DDAA-815C-49A0-8520-C661D699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0CE1A-56F7-4852-99F1-CCAECF6D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5F588-93DB-46BE-928F-CEE6C2CF6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873E5-75D4-4070-9D29-82850E26B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DE1D3-E394-4E3D-893F-809CAD203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BB06-BE8C-4A03-BFAC-6427C6F81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BA42-D2A2-4BE5-B808-A846FC500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1B2D-6232-46EB-AB3D-3398E4525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715E-E132-48AE-B671-0B10DE5DC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19CA-CCBC-4909-BB27-121415FA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9DE2-ACE0-4594-932A-22243971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37A6-E34E-41C2-A1FB-D71D1A7BC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673DE-D399-4A04-80B5-C26DF4F4EB0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EA990-EC90-46D5-85D9-98E5F15FE66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2b2b2"/>
                </a:solidFill>
                <a:latin typeface="Arial"/>
              </a:rPr>
              <a:t>Nomination for </a:t>
            </a:r>
            <a:br>
              <a:rPr sz="3600"/>
            </a:br>
            <a:r>
              <a:rPr b="1" lang="ru-RU" sz="3600" spc="-1" strike="noStrike">
                <a:solidFill>
                  <a:srgbClr val="b2b2b2"/>
                </a:solidFill>
                <a:latin typeface="Arial"/>
              </a:rPr>
              <a:t>Santos Dumont Gold Airship Medal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692360" y="5445000"/>
            <a:ext cx="64008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Leonid TYUKHTYAEV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SSIA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68360" y="1870200"/>
            <a:ext cx="5183280" cy="34542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2b2b2"/>
                </a:solidFill>
                <a:latin typeface="Arial"/>
              </a:rPr>
              <a:t>Leonid TYUKHTYAEV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24360" y="2492280"/>
            <a:ext cx="47577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e of birth – 21 of June, 195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ballooning from 199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t-air &amp; Gas balloons and Airship pil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tional Absolute Altitude Record holder (Class 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ssian Alternate in CIA FA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20840" y="1413000"/>
            <a:ext cx="332892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I World Recor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5444640"/>
            <a:ext cx="8229600" cy="11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Se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mber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2008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Flight of Au-30 Gas Airship (Saint-Peterburg – Vladimi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 World Record for subcategories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BA-05 - BA-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Distance - 626.1 km (FAI Database ID 15161-15166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5616720" cy="37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I World Recor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580536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Se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mber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2008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– Flight of Au-30 Gas Airship (Saint-Peterburg – Vladimir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AI World Record for subcategories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BA-05 - BA-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Distance - 626.1 km (FAI Database ID 15161-15166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908000" y="1484280"/>
            <a:ext cx="5394600" cy="41259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292720" y="1413000"/>
            <a:ext cx="2519280" cy="16812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763640" y="3571920"/>
            <a:ext cx="2160720" cy="2160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I World Recor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5444640"/>
            <a:ext cx="8229600" cy="11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Feb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ary 03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2009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 World Record for subcategory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BX-03, Distance - 99.136 km (FAI Database ID 1524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Feb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ary 24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2009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 World Record for subcategory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BX-03, Duration - 5 h 5 min (FAI Database ID 15243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692360" y="1125360"/>
            <a:ext cx="5689440" cy="38116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ussian Records Factor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123640" y="1341000"/>
            <a:ext cx="4753080" cy="43210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484360" y="1413000"/>
            <a:ext cx="4175280" cy="41749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755640" y="5805360"/>
            <a:ext cx="79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ssian Records Factory was established by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ONID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TYUKHTYAEV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 2006 to help Russian and former-USSR pilots with national and world recor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NOMIN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02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The Federation of Aeronautics of Russia consid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that the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rld record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flights are an outstanding performance in airships and proudly prese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ONID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TYUKHTYAEV as a candidate for the Santos Dumont Gold Airship Med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580000" y="1628640"/>
            <a:ext cx="3111480" cy="4464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132000" y="1628640"/>
            <a:ext cx="24228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5T18:47:31Z</dcterms:created>
  <dc:creator>Stanislaw Fuodoroff</dc:creator>
  <dc:description/>
  <dc:language>en-US</dc:language>
  <cp:lastModifiedBy>Stanislaw Fuodoroff</cp:lastModifiedBy>
  <dcterms:modified xsi:type="dcterms:W3CDTF">2010-03-13T08:47:47Z</dcterms:modified>
  <cp:revision>19</cp:revision>
  <dc:subject/>
  <dc:title>Nomination for  Santos Dumont Gold Airship Medal </dc:title>
</cp:coreProperties>
</file>