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C3443-0FB4-4548-B4AB-65F2AFACE7F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italise international ballooning youth cam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D5A6-2519-4138-B4DE-29EA082A9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CF65-F29F-49E8-9946-5F4527C27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184D-FECE-4D3F-A48A-5D6E8776A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2F0C-EBE3-444F-8029-CFED9B693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E9ED-78A2-4641-915C-E780EE52D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0B41-3FA1-45CC-82F1-668F2D932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018A-0016-4FEC-86A2-5D2BA9B53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B507-F643-4AE5-99E7-B85DFA58F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7F0C-2876-4A65-8E87-4794DB808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DEDB-2877-447C-B141-8F7D9DF80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9EC9-42E1-4688-9AD9-94DE1067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BC5A-4102-4392-9FE4-AABB76CBF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6C89B-4E81-4ED4-A091-559EE0059DC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593640"/>
            <a:ext cx="823284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Ballooning Youth Activities in Germa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788000" y="1557360"/>
            <a:ext cx="3592440" cy="3592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E640-F19E-45CC-97A1-66049553867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537480"/>
            <a:ext cx="823284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ome feedback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32840" cy="46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need of a more robust structure appeared to be crucial for future initi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main challenge to overcome is the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 the increasing help of sponsors and a helpful community in adapting the conditions to youngsters, this can be more affordable and valuable in ret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th enthusiasm around ballooning can also be captured and fostered by gathering different people from different horizon: countries or airsports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A223-61F3-4442-B861-FAA6E236CCE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their feedback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31040" cy="45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ery young involved enjoyed ballo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rom the different initiativ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d the feeling to be part of the air sport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arn that teamwork is key to this activity and also bey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ood that self discipline and rigourness during flight preparation and handling of the material really mat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d great fun with their peers and coa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0E73-FDDD-4C67-9D34-3CE7124B27AC}" type="slidenum">
              <a:t>1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4240"/>
            <a:ext cx="822960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allonSportJugend des DFS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8800" y="1600200"/>
            <a:ext cx="4327560" cy="49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BallonSportJugend (BSJ) is a permanent institution of the German Ballooning Federation (DFSV)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rt of youth activities of balloon clubs (youth camps, school and club projects) with know 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rt of youth activities with the German Balloon Federations Youth Balloon D-OBSJ and youth tent camp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435640" y="1484280"/>
            <a:ext cx="3409920" cy="453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989D-086A-4295-8B29-7687F44AEFD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4240"/>
            <a:ext cx="822960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nual Summer Youth Ca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86920" y="3428640"/>
            <a:ext cx="6985080" cy="295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rman Balloon Federations (DFSV) BallonSportjugend (BSJ) together with the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irsports Youth of the German Aeroclub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Luftsportjugend des DAeC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ual since 199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443640" y="1700280"/>
            <a:ext cx="1373040" cy="5158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547640" y="1557360"/>
            <a:ext cx="1119240" cy="1114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995640" y="1557360"/>
            <a:ext cx="1171800" cy="129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9587-9334-4BCF-B417-DF63BB7DC3F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5680"/>
            <a:ext cx="823104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ther Youth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15640" y="1604520"/>
            <a:ext cx="4103640" cy="279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571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uniorenmeisterschaft“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571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eting „Jeunes Brûleurs“ in F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571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th Airgames“ of the airsports youth of Baden-Württemberg (Germa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601"/>
              </a:spcBef>
              <a:buNone/>
              <a:tabLst>
                <a:tab algn="l" pos="3571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508720" y="1413000"/>
            <a:ext cx="2700360" cy="3600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508720" y="5157720"/>
            <a:ext cx="2814480" cy="104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44F0-0488-4152-B902-D9CDF6B8051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4240"/>
            <a:ext cx="822960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rman-French Youth Cam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95280" y="4581360"/>
            <a:ext cx="4038840" cy="109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nual camp since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tational located in France and in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588000" y="1700280"/>
            <a:ext cx="1635120" cy="2114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826920" y="1484280"/>
            <a:ext cx="2511720" cy="4527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356000" y="1628640"/>
            <a:ext cx="1693800" cy="187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4E2C-C706-4F00-BBCD-97CD386D07F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CIA International Youth Cam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669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itterfeld, Germany, 199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aucha, Germany, 199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zech Paradise, Czech Republik, 199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ulda, Germany, 199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empten, Germany, 20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aucha, Germany, 200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hl, Germany, 200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hl, Germany, 200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hl, Germany, 200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rtenberg, Germany,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6196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IA International Youth Camp 20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16000" y="1844280"/>
            <a:ext cx="4038840" cy="295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engthen the participants in international team p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courage similar initiatives in other fe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3376440" cy="444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0352-7364-4977-AE07-303E4056933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IA International Youth Camp 20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 venture of BallonSportGruppe Stuttgart and the German Balloon Federation (DFSV) with aid of the CIA/FAI, the and the German Aeroclub (Luftsportjugend des DAeC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 Hot Air Ballo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Gas Ballo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p to 30 Participants fro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merica, Africa, Asia, Australia and Europe aged 16 to 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04. AUG bis 10. AU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uttgart, Ger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967280" y="1600200"/>
            <a:ext cx="3398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424800"/>
            <a:ext cx="823284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ome feedback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65000" y="1604880"/>
            <a:ext cx="2664000" cy="36194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595320" y="1628280"/>
            <a:ext cx="5095800" cy="42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5880" indent="-3207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llooning is not a typical activity for young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ly in a few countries have youth activities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Germany, Fr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ly few clubs and balloonists are engaged in capturing youth interest in ballo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5A05-F246-4D3A-8B5D-42FC87CB479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9:43:00Z</dcterms:created>
  <dc:creator>Yousif Abdel Gadir hf609249</dc:creator>
  <dc:description/>
  <dc:language>en-US</dc:language>
  <cp:lastModifiedBy> </cp:lastModifiedBy>
  <dcterms:modified xsi:type="dcterms:W3CDTF">2008-03-06T14:19:27Z</dcterms:modified>
  <cp:revision>6</cp:revision>
  <dc:subject/>
  <dc:title>Folie 1</dc:title>
</cp:coreProperties>
</file>