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83400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3200" cy="1000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7360" y="-3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GB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41040" y="750960"/>
            <a:ext cx="5000760" cy="374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007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7360" y="9500760"/>
            <a:ext cx="298296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GB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3CA05DA-4758-487D-8ED9-046FF6287823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C25810B-BD17-4DEC-8815-1751C72C4411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D8AB977-EBF8-43D1-A8A5-BF6AA1A1247E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A9D8094-6281-480D-9086-F761605EDF08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DBED9A63-627F-441B-A412-364FFC7C3082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E15F7A3-1327-43B5-879C-638488CE30CA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920A5C0-B1B2-4A2B-BE03-6D088DB699FA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C033A92-9438-439D-834F-5DBE5C35E37B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D8DB25DE-46BA-45FE-B82A-35384A6F15A5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F99BB44-825C-4023-BC46-1227F0EF89A7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E766AB9-C34C-4409-B170-12A5D4EC232A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21069CE-469B-489E-AF80-7A4370777ABC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4581C8D-50C2-45C5-BB5E-274045BA4A6E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41400" y="750960"/>
            <a:ext cx="5000760" cy="374976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8680" y="4751280"/>
            <a:ext cx="550548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97360" y="9501120"/>
            <a:ext cx="29829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E109140-5849-4321-9CAA-84B2AEF0189D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E5DE-0B74-4111-898E-BCDA23F78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E41D-D6D1-42AE-B8F3-7CAF0456F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8447-DA97-490B-81B2-BA921E5FB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2389-34AA-4593-9699-1CFF54F2B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D132-E73E-40D8-98EC-043D4E73D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815C-649E-4441-9051-1C49331B6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62C7-7843-4E67-9659-051636EE6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6F9B-BEA6-403D-B1AB-2C6072ED7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E034-DD01-42A2-A11F-F289041B8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6771-9C27-4394-B9DF-A4A9D0ED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788E-5BD7-4584-8708-1F189974C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5070-D616-4D29-8BAB-482ADD7F3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9ADB5-9CE3-48B2-8BF4-F21FB50494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Semina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/07/20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ISE RE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FU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ENCOURAGE GREATER PARTICIP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 so far 7 &amp;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388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b Fitzgerald, Lerner En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nturi 3.0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iston induction 0.4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haust period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pilot in circle 88.0 dB(A) (-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ight speed 18.9 for 50 la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rner engine with moulded bubble to duct the exhaust (hopefully more details to co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5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--no loss of spe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 so far 9 &amp;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llo Conde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Zalp Eng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nturi 4.5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3 metre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8.1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50 metr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4.4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9.3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ight speed 18.3 / 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llo Conde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Zalp en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nturi 3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3 metr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9.1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50 metr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3.5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9.1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ight speed 19.4 / 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br>
              <a:rPr sz="2800"/>
            </a:b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periment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79280" y="1125360"/>
          <a:ext cx="8569440" cy="4619880"/>
        </p:xfrm>
        <a:graphic>
          <a:graphicData uri="http://schemas.openxmlformats.org/drawingml/2006/table">
            <a:tbl>
              <a:tblPr/>
              <a:tblGrid>
                <a:gridCol w="576360"/>
                <a:gridCol w="1512720"/>
                <a:gridCol w="935280"/>
                <a:gridCol w="936720"/>
                <a:gridCol w="1008000"/>
                <a:gridCol w="1368360"/>
                <a:gridCol w="1150920"/>
                <a:gridCol w="1081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3me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 pilo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haust 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 pilo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haust ou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pilo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haust front/re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 pilo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tted silenc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 50 meter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m centr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CIAM ru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ed exhaust               perio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5mm venturi + mini pi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5mm venturi +side resonant pi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ernal moulded exhaust bub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mm ventu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 Fu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2 committee was tasked with reporting back to Plenary by 2016 on the viability of having a standard fuel in f2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al from Hol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HOW TO ENCOURAGE GREATER PARTICIP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are entries to World cup events declin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are there so few juniors in F2C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2013 world c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6 juniors in F2D --Only 6 in F2C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Is the event losing its appe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make F2C more appeal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removing some of the expense and complication of F2C such as retracting undercarriage,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 fuels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?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a minimum weight simplify construction so widening the appeal of the cla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we need a different class to bridge the gap between F2C and F2F?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AM rule –Section 4C, part 1,1.2 b) states: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ise limits shall be applied to powered model aircraft, with 96dB(A) at 3 metre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or any category which does not have approval for any other noise ru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many years we have used the latter part of this rule with our deflector shields and restricted exhaust outlet a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85672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The Alternative Plan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From 01/01/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0066"/>
                </a:solidFill>
                <a:uFillTx/>
                <a:latin typeface="Arial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) The motor shall be naturally aspirated via a single round venturi with a maximum diameter of 3 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venturi diameter shall be checked with a simple no-go plug gauge 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a. 3,02 mm * 1,0 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) Any interconnecting chamber between the air intake and the induction port of the motor shall have a maximum volume of 1,25 cm3. No leakage is allowed between the venturi and the crankc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) There shall be no supplementary air induction except for sub piston induction to a maximum height of 0.6 mm at the exhaust p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Arial"/>
              </a:rPr>
              <a:t>THE CLEAR INTENT OF THIS IS TO ALLOW THE CONTINUED USE OF EXISTING MODELS AND ENG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856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erimental period – 2015 and 2016 contest season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tests at selected worldwide events,  in races or preferably  demonstration fligh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rd the noise levels and how achiev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asurements  taken at the center of the circle (pilot shoulder) and at 50 meters from the center of the circle,(these  then used to calculate the noise level at 3 meter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It is not mandatory to use a 3mm venturi in demonstration flights (i.e. outside of competition fligh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It is the responsibility of competitors to initiate the various experi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 essential part  that the various results are widely communicated -to enable the work to progress rapidly (via F2 working grou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Step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2 Committee shall  present a proposal to 2016/ 2017 Plenary of the appropriate noise limit for F2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to be considered are site locations, the restricted operating area, height and duration of flights.  Plus any other factors which mitigate the spread of noi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greed F2C noise limit will be circulated widely to assist the experimental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2C Noise 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856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Step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2 Committee shall consider if it believes that further progress to the agreed F2C limit can be achieved by any of the experimentation route(s) so far demonstr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If the answer is Y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the F2 Committee will present appropriate rules to the 2018 Plenary for implementation from 1st January 201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If the answer is NO,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F2 Committee will present silencer based rules to the 2018 Plenary for implementation from 1st January 201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2 Committee shall ensure that any such silencer solution rules are only drafted after open consultation with competitors and engine manufacturers on the preferred detail of that silencer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 so far 1 &amp;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8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olodymyr Fulitka ZALP eng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uced exhaust period to135 degr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ise down by 4 dB to 93 dB at pilot in circ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+0.2 se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31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UGOV &amp; SOSNOVSKI  Kiev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ntur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0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4dB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ight speed18.3 – 18.9 (+1.3 – 1.8) for 42-44 l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 so far 3 &amp;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ob Metkemeijer PROFI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gine open exha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ntur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0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ise at pilot in circle 92.2 dB (A) (-2.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ight spee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8.7 (+1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387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fi engine with side resonant mini pi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ntur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.85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iston induction 0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haust period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80 dB(A) (-1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ight speed 18.4 (+1.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ments so far 5 &amp;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ugov Engine engine with side resonant mini pi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ntur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.85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iston induc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haust period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2.1 dB(A) (-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ight speed 18.1 (+1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b Fitzgerald, Lerner Eng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n exhau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ntur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.5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iston induc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4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haust period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ise at pilot in circ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3.0 dB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ight speed 16.9 for 33 la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30T13:40:36Z</dcterms:created>
  <dc:creator>Derek Heaton</dc:creator>
  <dc:description/>
  <dc:language>en-US</dc:language>
  <cp:lastModifiedBy>Derek Heaton</cp:lastModifiedBy>
  <dcterms:modified xsi:type="dcterms:W3CDTF">2014-09-30T16:15:13Z</dcterms:modified>
  <cp:revision>26</cp:revision>
  <dc:subject/>
  <dc:title>F2C Seminar 13/07/2014</dc:title>
</cp:coreProperties>
</file>