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1040" y="750960"/>
            <a:ext cx="50007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A3D95C7-2AF7-4369-B9F9-AEDBCEE4DD4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7A59855-B763-4454-B4FE-F44F0CBC53D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2BF47BC-4285-4A6B-BA2E-F92809B84DF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3B28AFE-A870-4EF8-A825-ADE2A4AA31B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DAE178A-A983-4234-A50E-404E546C4B0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0C70A43-B21B-47BA-8FF4-69CC5DEF592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70EC722-ACB9-4F51-A2CC-2C061F873FB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B43BC01-B77D-4F56-88CA-2A28785B196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3448895-F525-43A1-A7B3-61AB2D4119B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91143D8-EDC2-47C4-919F-BA888737994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D68BBD0-B1C9-4B2B-98A8-FF6A1064D4D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6BB5E07-6A97-4E12-B04A-C5EF449CA54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492EC1C-833C-4165-8E35-BE11C9E5743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72C61B2-093F-4061-B2C7-5F615BCE66B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805F-AA72-4B81-B6F7-502AD87A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4286-AE27-487A-ACCF-EF87E205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6B6C-15FD-4104-A452-35495B09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A4C7-15BC-4A6B-BFFB-C2256294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FC2E-0C69-48BC-A04F-AF2C9E7F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110D-16A6-4D74-9E2B-CE9BB65B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C1B0-5394-44EB-A5BC-0C87C7CF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1F20-F647-4ACD-8570-FC1A90BF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2A51-189B-4A86-AFEB-1543469A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76FF-3AE4-46E6-862F-850D842F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B3E5-37FE-49A8-BBB0-534F0905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E03F-9986-418B-A128-62363D6A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4159-ECD0-4609-9C4C-FA531F391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Semina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/07/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SE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NCOURAGE GREATER PARTICIP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7 &amp;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.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 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 88.0 dB(A) (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9 for 50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rner engine with moulded bubble to duct the exhaust (hopefully more details to 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--no loss of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9 &amp;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4.5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8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4.4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3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3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3.5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9.4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rimen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125360"/>
          <a:ext cx="8569440" cy="4619880"/>
        </p:xfrm>
        <a:graphic>
          <a:graphicData uri="http://schemas.openxmlformats.org/drawingml/2006/table">
            <a:tbl>
              <a:tblPr/>
              <a:tblGrid>
                <a:gridCol w="576360"/>
                <a:gridCol w="1512720"/>
                <a:gridCol w="935280"/>
                <a:gridCol w="936720"/>
                <a:gridCol w="1008000"/>
                <a:gridCol w="1368360"/>
                <a:gridCol w="1150920"/>
                <a:gridCol w="1081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3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front/r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tted sile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50 met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cent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CIAM r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d exhaust               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 mini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side resonant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moulded exhaust bub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2 committee was tasked with reporting back to Plenary by 2016 on the viability of having a standard fuel in f2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from Ho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W TO ENCOURAGE GREATER PARTICIP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entries to World cup events decl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re so few juniors in F2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13 world 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juniors in F2D --Only 6 in F2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s the event losing its app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make F2C more appea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removing some of the expense and complication of F2C such as retracting undercarriage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fuel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a minimum weight simplify construction so widening the appeal of the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need a different class to bridge the gap between F2C and F2F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AM rule –Section 4C, part 1,1.2 b) stat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 limits shall be applied to powered model aircraft, with 96dB(A) at 3 metr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any category which does not have approval for any other noise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years we have used the latter part of this rule with our deflector shields and restricted exhaust outlet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he Alternative Plan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rom 01/01/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 The motor shall be naturally aspirated via a single round venturi with a maximum diameter of 3 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venturi diameter shall be checked with a simple no-go plug gauge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. 3,02 mm * 1,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 Any interconnecting chamber between the air intake and the induction port of the motor shall have a maximum volume of 1,25 cm3. No leakage is allowed between the venturi and the crankc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) There shall be no supplementary air induction except for sub piston induction to a maximum height of 0.6 mm at the exhaust 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THE CLEAR INTENT OF THIS IS TO ALLOW THE CONTINUED USE OF EXISTING MODELS AND EN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mental period – 2015 and 2016 contest seas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tests at selected worldwide events,  in races or preferably  demonstration fl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the noise levels and how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ments  taken at the center of the circle (pilot shoulder) and at 50 meters from the center of the circle,(these  then used to calculate the noise level at 3 met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not mandatory to use a 3mm venturi in demonstration flights (i.e. outside of competition fligh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the responsibility of competitors to initiate the various experi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 essential part  that the various results are widely communicated -to enable the work to progress rapidly (via F2 working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2 Committee shall  present a proposal to 2016/ 2017 Plenary of the appropriate noise limit for F2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to be considered are site locations, the restricted operating area, height and duration of flights.  Plus any other factors which mitigate the spread of no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greed F2C noise limit will be circulated widely to assist the experimental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2 Committee shall consider if it believes that further progress to the agreed F2C limit can be achieved by any of the experimentation route(s) so far demonst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Y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e F2 Committee will present appropriate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NO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F2 Committee will present silencer based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2 Committee shall ensure that any such silencer solution rules are only drafted after open consultation with competitors and engine manufacturers on the preferred detail of that silencer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1 &amp;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odymyr Fulitka ZALP eng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d exhaust period to135 deg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down by 4 dB to 93 dB at pilot in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0.2 s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UGOV &amp; SOSNOVSKI  Kiev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4dB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18.3 – 18.9 (+1.3 – 1.8) for 42-44 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3 &amp;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b Metkemeijer PROF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ine open exha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 92.2 dB (A) (-2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.7 (+1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8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i engine with side resonant mini p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ston induction 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 dB(A) (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 18.4 (+1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5 &amp;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ugov Engine engine with side resonant mini p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2.1 dB(A) (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1 (+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exh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3.0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6.9 for 33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30T13:40:36Z</dcterms:created>
  <dc:creator>Derek Heaton</dc:creator>
  <dc:description/>
  <dc:language>en-US</dc:language>
  <cp:lastModifiedBy>Derek Heaton</cp:lastModifiedBy>
  <dcterms:modified xsi:type="dcterms:W3CDTF">2014-09-30T16:15:13Z</dcterms:modified>
  <cp:revision>26</cp:revision>
  <dc:subject/>
  <dc:title>F2C Seminar 13/07/2014</dc:title>
</cp:coreProperties>
</file>