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3400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100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1040" y="750960"/>
            <a:ext cx="500076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03D39AB-20B8-4C02-87E7-1667E886C6C8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C472A67-2BAC-4091-9C79-8F792E092C9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EA548AC-F1CA-4653-A87B-D001AA0F31A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9637D68-E2CB-4111-ACDB-7A478308E90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1AC46A0-4990-4AC8-85CE-7B2B675DC5D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2613A8C-4379-4DC7-87E9-95BE6D0B13E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85CED4F-0802-4A5C-9DC8-42B1ACD54CC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194524C-D6C3-402F-9B12-9FB1E83F1BD7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AE18C26-0F00-43C2-A003-6F3F9F0F34EB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D54478B-4541-4EBE-A2E9-58209AA6D2A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B88F85D-900C-4729-A3FA-EB4ED862332C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BFDB2C9-9365-4A4E-A580-0C9094BE833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82B73F0-71C0-4B0B-B4ED-F04B4569DD5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E9ED6D4-B556-402C-B915-F0E8472B9A18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3D64-D380-4EDA-BC78-BE8D3DACF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8F6C-74E3-4BF1-9D40-1C87D4F5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A346-1C6D-4625-ADC1-EFF8D5563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5B6F-F8F4-45C5-B8D3-08412A090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AC35-2FB5-473E-8470-051E5291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F557-7DD2-490E-AA97-2B67AE1E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4109-E94F-479D-B9F0-5BBF4A0F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313F-39DA-47AF-A220-BF0CFA7E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52B5-FF23-43EA-954C-DD3DECC3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D692-6083-41E2-89D4-621B3ACE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AA7D-B558-4B75-B91F-5396A974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94D9-4F6C-41E3-A1B5-572B79AE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45AE-03D9-4A40-8CF9-B1DE2F877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Semina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/07/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ISE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ENCOURAGE GREATER PARTICIP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7 &amp;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388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 Fitzgerald, Lerner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3.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 0.4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 88.0 dB(A) (-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9 for 50 l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rner engine with moulded bubble to duct the exhaust (hopefully more details to co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5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--no loss of sp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9 &amp;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lo Cond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lp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4.5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3 metr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8.1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50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4.4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3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3 /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lo Cond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lp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3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3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1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50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3.5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1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9.4 /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periment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9280" y="1125360"/>
          <a:ext cx="8569440" cy="4619880"/>
        </p:xfrm>
        <a:graphic>
          <a:graphicData uri="http://schemas.openxmlformats.org/drawingml/2006/table">
            <a:tbl>
              <a:tblPr/>
              <a:tblGrid>
                <a:gridCol w="576360"/>
                <a:gridCol w="1512720"/>
                <a:gridCol w="935280"/>
                <a:gridCol w="936720"/>
                <a:gridCol w="1008000"/>
                <a:gridCol w="1368360"/>
                <a:gridCol w="1150920"/>
                <a:gridCol w="1081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3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front/r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tted sile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50 meter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centr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CIAM r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d exhaust               peri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mm venturi + mini pi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mm venturi +side resonant pi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al moulded exhaust bub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Fu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2 committee was tasked with reporting back to Plenary by 2016 on the viability of having a standard fuel in f2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from Hol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OW TO ENCOURAGE GREATER PARTICIP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entries to World cup events decli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there so few juniors in F2C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13 world c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 juniors in F2D --Only 6 in F2C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Is the event losing its appe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make F2C more appea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removing some of the expense and complication of F2C such as retracting undercarriage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 fuel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a minimum weight simplify construction so widening the appeal of the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need a different class to bridge the gap between F2C and F2F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AM rule –Section 4C, part 1,1.2 b) states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ise limits shall be applied to powered model aircraft, with 96dB(A) at 3 metre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 any category which does not have approval for any other noise r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ny years we have used the latter part of this rule with our deflector shields and restricted exhaust outlet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56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The Alternative Plan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rom 01/01/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66"/>
                </a:solidFill>
                <a:uFillTx/>
                <a:latin typeface="Arial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) The motor shall be naturally aspirated via a single round venturi with a maximum diameter of 3 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venturi diameter shall be checked with a simple no-go plug gauge 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. 3,02 mm * 1,0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) Any interconnecting chamber between the air intake and the induction port of the motor shall have a maximum volume of 1,25 cm3. No leakage is allowed between the venturi and the crankc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) There shall be no supplementary air induction except for sub piston induction to a maximum height of 0.6 mm at the exhaust 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THE CLEAR INTENT OF THIS IS TO ALLOW THE CONTINUED USE OF EXISTING MODELS AND ENG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imental period – 2015 and 2016 contest season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tests at selected worldwide events,  in races or preferably  demonstration fligh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the noise levels and how achie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surements  taken at the center of the circle (pilot shoulder) and at 50 meters from the center of the circle,(these  then used to calculate the noise level at 3 meter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t is not mandatory to use a 3mm venturi in demonstration flights (i.e. outside of competition fligh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t is the responsibility of competitors to initiate the various experi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 essential part  that the various results are widely communicated -to enable the work to progress rapidly (via F2 working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te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2 Committee shall  present a proposal to 2016/ 2017 Plenary of the appropriate noise limit for F2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to be considered are site locations, the restricted operating area, height and duration of flights.  Plus any other factors which mitigate the spread of no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greed F2C noise limit will be circulated widely to assist the experimental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2 Committee shall consider if it believes that further progress to the agreed F2C limit can be achieved by any of the experimentation route(s) so far demonstr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f the answer is Y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the F2 Committee will present appropriate rules to the 2018 Plenary for implementation from 1st January 20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f the answer is NO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F2 Committee will present silencer based rules to the 2018 Plenary for implementation from 1st January 20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2 Committee shall ensure that any such silencer solution rules are only drafted after open consultation with competitors and engine manufacturers on the preferred detail of that silencer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1 &amp;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olodymyr Fulitka ZALP eng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d exhaust period to135 degr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down by 4 dB to 93 dB at pilot in cir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0.2 se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UGOV &amp; SOSNOVSKI  Kiev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4dB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18.3 – 18.9 (+1.3 – 1.8) for 42-44 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3 &amp;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b Metkemeijer PROF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ine open exha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 92.2 dB (A) (-2.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8.7 (+1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87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fi engine with side resonant mini p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85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ston induction 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0 dB(A) (-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 18.4 (+1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5 &amp;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ugov Engine engine with side resonant mini pi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8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2.1 dB(A) (-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1 (+1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 Fitzgerald, Lerner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exha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4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3.0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6.9 for 33 l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30T13:40:36Z</dcterms:created>
  <dc:creator>Derek Heaton</dc:creator>
  <dc:description/>
  <dc:language>en-US</dc:language>
  <cp:lastModifiedBy>Derek Heaton</cp:lastModifiedBy>
  <dcterms:modified xsi:type="dcterms:W3CDTF">2014-09-30T16:15:13Z</dcterms:modified>
  <cp:revision>26</cp:revision>
  <dc:subject/>
  <dc:title>F2C Seminar 13/07/2014</dc:title>
</cp:coreProperties>
</file>