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D4002-785D-4BB7-86DB-AEB07FF454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9130-1B03-4C49-B33B-E7A9C553B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7996-E36F-4058-A277-070049DEC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1832-CF25-48A0-8932-AB08FFE58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6788-98B2-405C-8C41-1F2BF43CC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BF7DFB-3391-4893-971B-FFDF895EC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10FE0B-8172-42A6-92D5-CA1ED5458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1BD10A-7A63-432D-A838-135C90694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F41A53-8816-4C44-81E3-FCBA238FB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2A693B-7D99-4D56-A025-42A01B09D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CCF027-5B04-47E0-87A5-2B523A0C7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21C2D7-7644-4152-8DD4-AE574DDD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060A-8D27-4193-BB79-2892A7B1E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38C814-A2A4-43DC-8B60-380151FB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1F30C3-F104-488B-AFD0-510FD87C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AACAEC-E1DA-49F4-A10E-0906707CE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80A11D-81C4-451D-87F9-45A2AC459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D2D14B-E300-4020-885B-1D27D317F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0BC9-FA26-4001-A513-09DF67974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D8D6-58AD-4F4C-8E89-5A134B5F5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CE40-F95D-4F99-9A83-DA88E8359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44E0-AB9A-4306-BB23-3739AC786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EA41-E1FE-4C93-BA90-AE231EB5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75E6-F420-4548-B02A-77150B31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4EF9-CE50-4543-8FF6-7D6AC756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36686-49C2-4D9D-8BF3-E0106D442A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D0553-5967-45B2-9A16-BA669EF0B5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TECHNICAL &amp; SAFETY COMMITTE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559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International Parachuting Commiss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IE" sz="4800" spc="-1" strike="noStrike">
                <a:solidFill>
                  <a:srgbClr val="ffffff"/>
                </a:solidFill>
                <a:latin typeface="Tahoma"/>
              </a:rPr>
              <a:t>2001 Safety Repor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In 31 responding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92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6.872,438 skydives were ma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417,202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74,700 jum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4,534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5400" spc="-1" strike="noStrike">
                <a:solidFill>
                  <a:srgbClr val="ffffff"/>
                </a:solidFill>
                <a:latin typeface="Tahoma"/>
              </a:rPr>
              <a:t>92 Fataliti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7 Student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29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0-25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3 Interm.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25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42 Expert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46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51+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Cutaway/No or low reserve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No pull/low pull on main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Other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6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Other ‘ Fatalities (64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ain/reserve Entanglement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Other Landing Error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Canopy Collisio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ain Mal. – no cutaway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Jumpers striking aircraft in air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edical (Heart attacks)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Canopy Collapse near Ground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Reserve mal.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Suicide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Strangulation by reserve riser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Unknow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Fatalities – Largest Group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24% Other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4%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4% Low Cutawa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3% Main/Reserve Entangl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3% No/low Main Canopy Activation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ffffff"/>
                </a:solidFill>
                <a:latin typeface="Tahoma"/>
              </a:rPr>
              <a:t>Some Significant Figur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84% of the fatalities occurred with the parachutist having at least one good parachute on his/her bac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40% after the successful deployment of the main parachu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35% of fatalities might have been avoided by AAD u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94% of fatalities would appear to have been caused by human err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9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Tahoma"/>
              </a:rPr>
              <a:t>12 of the 92 Fatalities were First Jump Stud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9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Noticeable Tren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Increased use of A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Round Main Canopies being used l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Big movement towards Tandem jump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Report, along with 2001 AAD Report, has been sent by e-mail to all respondents and to all other countries for which we have e-mail addresses.  Hard copies are now available for delega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3-01-29T10:35:12Z</dcterms:modified>
  <cp:revision>7</cp:revision>
  <dc:subject/>
  <dc:title>SAFETY &amp; TRAINING FORUM 25 January 2003</dc:title>
</cp:coreProperties>
</file>