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7077-0BDC-40A9-873D-981BAE452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7558-DD09-4062-80FA-568158D6B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024E-E65F-4622-A526-5201994D9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4AB9-D3DC-4763-808D-E61789CA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1CB6-C677-4FED-8534-637E7797B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7929-5643-4B14-B715-5C02242FD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09EB-9A77-4C79-AAFB-A7B5FB114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6CFCF-5398-48C7-AFA3-A36CBB7A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B195-B4CB-4EF2-8721-06ADB813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DE55-9C14-4601-8257-70C75A2B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00A9C-5F2D-4002-8E40-1AA63264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4798-45F8-4FB7-A07B-8C8937F1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313B-476B-427E-B2A8-FEA27468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D9D6-37CA-44C3-B785-7F88293B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23A9-920F-4847-B25D-F0C93BDA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66AD-AFE8-49F5-B1F0-023E07CD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0EAA-D061-4B7D-86D1-D791A965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3761-2926-472D-AF2A-D5B16FAD6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BBC4-8B73-4527-A8D9-A4C5A6AE3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91885-5440-47BB-B2B4-69F7CA656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8D46B-35D9-4B5C-B0A8-69F83A3C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ECCF3-7042-458B-991E-7229FC83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3B0E2-B01A-45CF-8006-189230D3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13FB2-3846-466E-A345-A658E04A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F81D-78C7-4506-BCF3-62A75C3A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08A81-F0C8-4DB7-AE90-62E1152E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1DE54-22BE-4D3F-B7E1-FA85062F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2FD10-9A37-431E-A1B3-69A03128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C1412-4497-49C4-9711-BC7247E1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0A8D4-57F6-4C27-9627-5FAAD6BA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71AE8-B599-4E08-8ACB-D4ED15CEE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D530B-2AF3-4BDD-B303-56677F47B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D5D44-C68D-4BBF-8CA4-D9D1EB8C1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927B1-E060-4CAC-BA93-9BD63342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9BE9C-4D4E-4627-88A4-11DD1D52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47D9-2A8D-471E-A086-9FEB644B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5EF73-E839-444A-9CCF-9E649866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39D9F-3952-424D-BA07-EEC818FD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D836D-00F0-4846-86FC-6689A81F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5175F-779F-4AAF-BC89-3B11465E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57ED4-0F1A-4C22-9B04-537477F7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6BF76-7308-4E08-8150-91274925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EF163-6F74-45E6-8B2E-AC391A68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AE3E4-6C56-4B22-97E5-6EFBFEBCF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C638C-A0F1-41DF-970E-F772839B2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D9CD-9768-4955-86AF-E8505DEB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4EEB-8D0F-4146-A933-6713BBE1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D4D4-55C0-40A4-B5B1-DBA0E8DE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6BDA-8272-493A-B30C-C77DB687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B6D8-613B-4D9E-9ED3-556F16FF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6DB7-68B5-48ED-92BB-3C34356BEB7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3770-A80E-4A45-A4CD-C0EF5AF32AB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E465-78E8-4FA9-9AFD-C6D35FC322B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8D45-C370-4541-B0BB-A58A63F01DD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2) issued in 2016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5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6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8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5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27,02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25,8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0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5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10,450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2,097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60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3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50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50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7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5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 pull, AAD fired and cut loop but  no reserve deployment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oot caught on line, cut away, reserve partly open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Spinning main, reserve deployed 800 ft., no cuta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Apparent incapacita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deflated at low altitude, structural failur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 – jumper over run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urbulence at low altitud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Wingsuit -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one wing not closed, vertical descent rate too low       1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to fire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50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12 - 2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7 – 12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d issu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6 – 1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9 (32% of total fatalities, 6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60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1 (68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48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6 (10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2 (70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Five of the 2015 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9 (32% of 60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7.6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55,873 Solo jumps – 1,171, 150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59 (60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7-01-17T21:11:37Z</dcterms:modified>
  <cp:revision>112</cp:revision>
  <dc:subject/>
  <dc:title>SAFETY &amp; TRAINING FORUM 25 January 2003</dc:title>
</cp:coreProperties>
</file>