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D2F17-4ED4-419A-A5B7-53573F51FD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93C73-44E6-491D-B673-351B0EE07CE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18BA1-D4FE-4D4C-8EB2-813CC5DC0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7E3B3-D521-4DD2-9BA9-C11D12604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631B6-F8E4-4166-880E-0D397A061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40150-2AB5-4396-92A1-CDFBABC19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B013F-EA48-495D-9D59-40094C7CC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EC15C-E4D5-4C10-8090-F052232B6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2A205-02CD-4818-AEAE-82AE77AFD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24738-D2FA-41FF-AD8E-F216823FE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448E4-3BE5-4AB0-A134-1CCC7B406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90DA6-A9C3-49C4-A0D1-96BD9A19E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39CB4-8595-4D3D-B1B4-3F8B5EA73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28689-5EAE-43A3-A3AE-BB1D727BA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EF6D7-6BE0-4896-A839-0ACFA9394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5CE15-45D6-4FDE-9165-CC7D2F656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305E4-9D0D-4EB3-BBC3-338FEAAD4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B08B3-25BB-42D8-8C7C-530BE7418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88A40-40CA-4EC0-944B-BC8F5A250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F41D9-5FDF-42EF-8494-5B48D4AF6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9C3EA-362F-476A-9ED6-0A485061B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F2086-7D87-49C7-9DD6-15AB0D886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33971-6972-45D0-8F16-751472DC1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BFE06-0D5F-43CB-9219-AF69C6EF7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E2E7B-ED69-42C5-98AA-F70F9AB98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5A3A9-7B4D-4E57-A2D4-AF6BC315B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5195880"/>
                <a:gd name="textAreaBottom" fmla="*/ 5196240 h 519588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>
                <a:gd name="textAreaLeft" fmla="*/ 0 w 8904240"/>
                <a:gd name="textAreaRight" fmla="*/ 8904600 w 8904240"/>
                <a:gd name="textAreaTop" fmla="*/ 0 h 5148360"/>
                <a:gd name="textAreaBottom" fmla="*/ 5148720 h 514836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>
                <a:gd name="textAreaLeft" fmla="*/ 0 w 6410160"/>
                <a:gd name="textAreaRight" fmla="*/ 6410520 w 641016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>
                <a:gd name="textAreaLeft" fmla="*/ 0 w 2730600"/>
                <a:gd name="textAreaRight" fmla="*/ 2730600 w 273060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>
                <a:gd name="textAreaLeft" fmla="*/ 0 w 7594560"/>
                <a:gd name="textAreaRight" fmla="*/ 7594920 w 759456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>
                <a:gd name="textAreaLeft" fmla="*/ 0 w 1546200"/>
                <a:gd name="textAreaRight" fmla="*/ 1546560 w 154620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>
                <a:gd name="textAreaLeft" fmla="*/ 0 w 3395520"/>
                <a:gd name="textAreaRight" fmla="*/ 3395880 w 339552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>
                <a:gd name="textAreaLeft" fmla="*/ 0 w 5745240"/>
                <a:gd name="textAreaRight" fmla="*/ 5745600 w 5745240"/>
                <a:gd name="textAreaTop" fmla="*/ 0 h 552600"/>
                <a:gd name="textAreaBottom" fmla="*/ 552960 h 55260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>
                <a:gd name="textAreaLeft" fmla="*/ 0 w 2228760"/>
                <a:gd name="textAreaRight" fmla="*/ 2228760 w 2228760"/>
                <a:gd name="textAreaTop" fmla="*/ 0 h 600120"/>
                <a:gd name="textAreaBottom" fmla="*/ 600480 h 60012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3471840"/>
                <a:gd name="textAreaBottom" fmla="*/ 3472200 h 347184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>
                <a:gd name="textAreaLeft" fmla="*/ 0 w 5014800"/>
                <a:gd name="textAreaRight" fmla="*/ 5015160 w 5014800"/>
                <a:gd name="textAreaTop" fmla="*/ 0 h 4325760"/>
                <a:gd name="textAreaBottom" fmla="*/ 4326120 h 432576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>
                <a:gd name="textAreaLeft" fmla="*/ 0 w 512640"/>
                <a:gd name="textAreaRight" fmla="*/ 513000 w 512640"/>
                <a:gd name="textAreaTop" fmla="*/ 0 h 474840"/>
                <a:gd name="textAreaBottom" fmla="*/ 475200 h 47484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>
                <a:gd name="textAreaLeft" fmla="*/ 0 w 4951440"/>
                <a:gd name="textAreaRight" fmla="*/ 4951800 w 4951440"/>
                <a:gd name="textAreaTop" fmla="*/ 0 h 4251240"/>
                <a:gd name="textAreaBottom" fmla="*/ 4251600 h 425124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022640"/>
                <a:gd name="textAreaBottom" fmla="*/ 4023000 h 402264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>
                <a:gd name="textAreaLeft" fmla="*/ 0 w 3489480"/>
                <a:gd name="textAreaRight" fmla="*/ 3489840 w 3489480"/>
                <a:gd name="textAreaTop" fmla="*/ 0 h 3936960"/>
                <a:gd name="textAreaBottom" fmla="*/ 3936960 h 393696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1654200"/>
                <a:gd name="textAreaBottom" fmla="*/ 1654560 h 165420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>
                <a:gd name="textAreaLeft" fmla="*/ 0 w 541440"/>
                <a:gd name="textAreaRight" fmla="*/ 541440 w 541440"/>
                <a:gd name="textAreaTop" fmla="*/ 0 h 1263600"/>
                <a:gd name="textAreaBottom" fmla="*/ 1263960 h 126360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959200"/>
                <a:gd name="textAreaBottom" fmla="*/ 2959560 h 295920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122560"/>
                <a:gd name="textAreaBottom" fmla="*/ 2122920 h 212256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>
                <a:gd name="textAreaLeft" fmla="*/ 0 w 7075800"/>
                <a:gd name="textAreaRight" fmla="*/ 7076160 w 7075800"/>
                <a:gd name="textAreaTop" fmla="*/ 0 h 5043600"/>
                <a:gd name="textAreaBottom" fmla="*/ 5043960 h 504360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>
                <a:gd name="textAreaLeft" fmla="*/ 0 w 3862440"/>
                <a:gd name="textAreaRight" fmla="*/ 3862800 w 3862440"/>
                <a:gd name="textAreaTop" fmla="*/ 0 h 4149720"/>
                <a:gd name="textAreaBottom" fmla="*/ 4150080 h 414972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>
                <a:gd name="textAreaLeft" fmla="*/ 0 w 2864160"/>
                <a:gd name="textAreaRight" fmla="*/ 2864520 w 2864160"/>
                <a:gd name="textAreaTop" fmla="*/ 0 h 3911760"/>
                <a:gd name="textAreaBottom" fmla="*/ 3912120 h 391176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>
                <a:gd name="textAreaLeft" fmla="*/ 0 w 1960560"/>
                <a:gd name="textAreaRight" fmla="*/ 1960920 w 1960560"/>
                <a:gd name="textAreaTop" fmla="*/ 0 h 3292560"/>
                <a:gd name="textAreaBottom" fmla="*/ 3292920 h 329256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>
                <a:gd name="textAreaLeft" fmla="*/ 0 w 1683000"/>
                <a:gd name="textAreaRight" fmla="*/ 1683360 w 1683000"/>
                <a:gd name="textAreaTop" fmla="*/ 0 h 3073320"/>
                <a:gd name="textAreaBottom" fmla="*/ 3073680 h 307332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>
                <a:gd name="textAreaLeft" fmla="*/ 0 w 1227240"/>
                <a:gd name="textAreaRight" fmla="*/ 1227600 w 1227240"/>
                <a:gd name="textAreaTop" fmla="*/ 0 h 2360520"/>
                <a:gd name="textAreaBottom" fmla="*/ 2360880 h 236052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>
                  <a:gd name="textAreaLeft" fmla="*/ 0 w 5826240"/>
                  <a:gd name="textAreaRight" fmla="*/ 5826600 w 5826240"/>
                  <a:gd name="textAreaTop" fmla="*/ 0 h 2084400"/>
                  <a:gd name="textAreaBottom" fmla="*/ 2084760 h 208440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>
                  <a:gd name="textAreaLeft" fmla="*/ 0 w 3352680"/>
                  <a:gd name="textAreaRight" fmla="*/ 3353040 w 3352680"/>
                  <a:gd name="textAreaTop" fmla="*/ 0 h 1103400"/>
                  <a:gd name="textAreaBottom" fmla="*/ 1103400 h 110340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AA835-AABA-475D-BF0C-C03AC58D7A4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5195880"/>
                <a:gd name="textAreaBottom" fmla="*/ 5196240 h 519588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>
                <a:gd name="textAreaLeft" fmla="*/ 0 w 8904240"/>
                <a:gd name="textAreaRight" fmla="*/ 8904600 w 8904240"/>
                <a:gd name="textAreaTop" fmla="*/ 0 h 5148360"/>
                <a:gd name="textAreaBottom" fmla="*/ 5148720 h 514836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>
                <a:gd name="textAreaLeft" fmla="*/ 0 w 6410160"/>
                <a:gd name="textAreaRight" fmla="*/ 6410520 w 641016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>
                <a:gd name="textAreaLeft" fmla="*/ 0 w 2730600"/>
                <a:gd name="textAreaRight" fmla="*/ 2730600 w 273060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>
                <a:gd name="textAreaLeft" fmla="*/ 0 w 7594560"/>
                <a:gd name="textAreaRight" fmla="*/ 7594920 w 759456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>
                <a:gd name="textAreaLeft" fmla="*/ 0 w 1546200"/>
                <a:gd name="textAreaRight" fmla="*/ 1546560 w 154620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>
                <a:gd name="textAreaLeft" fmla="*/ 0 w 3395520"/>
                <a:gd name="textAreaRight" fmla="*/ 3395880 w 339552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>
                <a:gd name="textAreaLeft" fmla="*/ 0 w 5745240"/>
                <a:gd name="textAreaRight" fmla="*/ 5745600 w 5745240"/>
                <a:gd name="textAreaTop" fmla="*/ 0 h 552600"/>
                <a:gd name="textAreaBottom" fmla="*/ 552960 h 55260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>
                <a:gd name="textAreaLeft" fmla="*/ 0 w 2228760"/>
                <a:gd name="textAreaRight" fmla="*/ 2228760 w 2228760"/>
                <a:gd name="textAreaTop" fmla="*/ 0 h 600120"/>
                <a:gd name="textAreaBottom" fmla="*/ 600480 h 60012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3471840"/>
                <a:gd name="textAreaBottom" fmla="*/ 3472200 h 347184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>
                <a:gd name="textAreaLeft" fmla="*/ 0 w 5014800"/>
                <a:gd name="textAreaRight" fmla="*/ 5015160 w 5014800"/>
                <a:gd name="textAreaTop" fmla="*/ 0 h 4325760"/>
                <a:gd name="textAreaBottom" fmla="*/ 4326120 h 432576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>
                <a:gd name="textAreaLeft" fmla="*/ 0 w 512640"/>
                <a:gd name="textAreaRight" fmla="*/ 513000 w 512640"/>
                <a:gd name="textAreaTop" fmla="*/ 0 h 474840"/>
                <a:gd name="textAreaBottom" fmla="*/ 475200 h 47484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>
                <a:gd name="textAreaLeft" fmla="*/ 0 w 4951440"/>
                <a:gd name="textAreaRight" fmla="*/ 4951800 w 4951440"/>
                <a:gd name="textAreaTop" fmla="*/ 0 h 4251240"/>
                <a:gd name="textAreaBottom" fmla="*/ 4251600 h 425124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022640"/>
                <a:gd name="textAreaBottom" fmla="*/ 4023000 h 402264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>
                <a:gd name="textAreaLeft" fmla="*/ 0 w 3489480"/>
                <a:gd name="textAreaRight" fmla="*/ 3489840 w 3489480"/>
                <a:gd name="textAreaTop" fmla="*/ 0 h 3936960"/>
                <a:gd name="textAreaBottom" fmla="*/ 3936960 h 393696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1654200"/>
                <a:gd name="textAreaBottom" fmla="*/ 1654560 h 165420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>
                <a:gd name="textAreaLeft" fmla="*/ 0 w 541440"/>
                <a:gd name="textAreaRight" fmla="*/ 541440 w 541440"/>
                <a:gd name="textAreaTop" fmla="*/ 0 h 1263600"/>
                <a:gd name="textAreaBottom" fmla="*/ 1263960 h 126360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959200"/>
                <a:gd name="textAreaBottom" fmla="*/ 2959560 h 295920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122560"/>
                <a:gd name="textAreaBottom" fmla="*/ 2122920 h 212256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>
                <a:gd name="textAreaLeft" fmla="*/ 0 w 7075800"/>
                <a:gd name="textAreaRight" fmla="*/ 7076160 w 7075800"/>
                <a:gd name="textAreaTop" fmla="*/ 0 h 5043600"/>
                <a:gd name="textAreaBottom" fmla="*/ 5043960 h 504360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>
                <a:gd name="textAreaLeft" fmla="*/ 0 w 3862440"/>
                <a:gd name="textAreaRight" fmla="*/ 3862800 w 3862440"/>
                <a:gd name="textAreaTop" fmla="*/ 0 h 4149720"/>
                <a:gd name="textAreaBottom" fmla="*/ 4150080 h 414972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>
                <a:gd name="textAreaLeft" fmla="*/ 0 w 2864160"/>
                <a:gd name="textAreaRight" fmla="*/ 2864520 w 2864160"/>
                <a:gd name="textAreaTop" fmla="*/ 0 h 3911760"/>
                <a:gd name="textAreaBottom" fmla="*/ 3912120 h 391176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>
                <a:gd name="textAreaLeft" fmla="*/ 0 w 1960560"/>
                <a:gd name="textAreaRight" fmla="*/ 1960920 w 1960560"/>
                <a:gd name="textAreaTop" fmla="*/ 0 h 3292560"/>
                <a:gd name="textAreaBottom" fmla="*/ 3292920 h 329256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>
                <a:gd name="textAreaLeft" fmla="*/ 0 w 1683000"/>
                <a:gd name="textAreaRight" fmla="*/ 1683360 w 1683000"/>
                <a:gd name="textAreaTop" fmla="*/ 0 h 3073320"/>
                <a:gd name="textAreaBottom" fmla="*/ 3073680 h 307332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>
                <a:gd name="textAreaLeft" fmla="*/ 0 w 1227240"/>
                <a:gd name="textAreaRight" fmla="*/ 1227600 w 1227240"/>
                <a:gd name="textAreaTop" fmla="*/ 0 h 2360520"/>
                <a:gd name="textAreaBottom" fmla="*/ 2360880 h 236052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>
                  <a:gd name="textAreaLeft" fmla="*/ 0 w 5826240"/>
                  <a:gd name="textAreaRight" fmla="*/ 5826600 w 5826240"/>
                  <a:gd name="textAreaTop" fmla="*/ 0 h 2084400"/>
                  <a:gd name="textAreaBottom" fmla="*/ 2084760 h 208440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>
                  <a:gd name="textAreaLeft" fmla="*/ 0 w 3352680"/>
                  <a:gd name="textAreaRight" fmla="*/ 3353040 w 3352680"/>
                  <a:gd name="textAreaTop" fmla="*/ 0 h 1103400"/>
                  <a:gd name="textAreaBottom" fmla="*/ 1103400 h 110340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8FD75-8239-4519-A47A-5D12AA02AA7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image" Target="../media/image6.png"/><Relationship Id="rId15" Type="http://schemas.openxmlformats.org/officeDocument/2006/relationships/image" Target="../media/image8.jpeg"/><Relationship Id="rId1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26560" y="1844640"/>
            <a:ext cx="8137800" cy="19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ffffff"/>
                </a:solidFill>
                <a:latin typeface="Arial Unicode MS"/>
              </a:rPr>
              <a:t>TECHNICAL &amp; SAFETY COMMITTEE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116000" y="3499920"/>
            <a:ext cx="7848720" cy="24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International Parachuting Commission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FA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Picture 5" descr="logo_ipc_01_trait copie"/>
          <p:cNvPicPr/>
          <p:nvPr/>
        </p:nvPicPr>
        <p:blipFill>
          <a:blip r:embed="rId1"/>
          <a:stretch/>
        </p:blipFill>
        <p:spPr>
          <a:xfrm>
            <a:off x="6588000" y="476280"/>
            <a:ext cx="1729080" cy="107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899640" y="1557360"/>
            <a:ext cx="75438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ffffff"/>
                </a:solidFill>
                <a:uFillTx/>
                <a:latin typeface="Arial"/>
              </a:rPr>
              <a:t>DISTRIBUTION OF REPOR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This report, along with this and Power Point presentation, has been sent b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e-mail to all respondents and to all other countries for which the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T&amp;S Committee has e-mail addresses.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CDs are available to IPC Delegates and to Technical and Safety Officers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who request copies.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ffffff"/>
                </a:solidFill>
                <a:uFillTx/>
                <a:latin typeface="Arial"/>
              </a:rPr>
              <a:t>The CD has the following material 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2013 Safety Survey Report</a:t>
            </a: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2013 Safety Survey Report Power Point Presenta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Safety Survey 2014 Form</a:t>
            </a: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Safety Survey 2014 Notes</a:t>
            </a: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IE" sz="1400" spc="-1" strike="noStrike">
                <a:solidFill>
                  <a:srgbClr val="ffffff"/>
                </a:solidFill>
                <a:latin typeface="Arial"/>
              </a:rPr>
              <a:t>A Report on Present International Regulations Regarding Diabetes Mellitus        Type 1 and Air Spor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400" spc="-1" strike="noStrike" u="sng">
                <a:solidFill>
                  <a:srgbClr val="ffffff"/>
                </a:solidFill>
                <a:uFillTx/>
                <a:latin typeface="Arial"/>
              </a:rPr>
              <a:t>APPE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Those countries who did not report for 2013 are requested to make a special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effort to do so for 2014.  The compilation of data is to the benefit of the country gathering same,  and to the worldwide skydiving community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buSzPct val="21168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8" name="Picture 8" descr="logo_ipc_01_trait copie"/>
          <p:cNvPicPr/>
          <p:nvPr/>
        </p:nvPicPr>
        <p:blipFill>
          <a:blip r:embed="rId2"/>
          <a:stretch/>
        </p:blipFill>
        <p:spPr>
          <a:xfrm>
            <a:off x="7021440" y="404640"/>
            <a:ext cx="1328760" cy="936720"/>
          </a:xfrm>
          <a:prstGeom prst="rect">
            <a:avLst/>
          </a:prstGeom>
          <a:ln w="0">
            <a:noFill/>
          </a:ln>
        </p:spPr>
      </p:pic>
      <p:sp>
        <p:nvSpPr>
          <p:cNvPr id="199" name="Text Box 10"/>
          <p:cNvSpPr/>
          <p:nvPr/>
        </p:nvSpPr>
        <p:spPr>
          <a:xfrm>
            <a:off x="1042920" y="76500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Tahoma"/>
              </a:rPr>
              <a:t>Distribution of Repor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800" spc="-1" strike="noStrike">
                <a:solidFill>
                  <a:srgbClr val="ffffff"/>
                </a:solidFill>
                <a:latin typeface="Arial"/>
              </a:rPr>
              <a:t>Respons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68000" y="1628640"/>
            <a:ext cx="828036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Arial"/>
              </a:rPr>
              <a:t>39 countries responded, from a possible approximately 85, a response rate of 46%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Arial"/>
              </a:rPr>
              <a:t>The response rate was similar to 2012 and has been about this rate for the 26 years of the Safety Surve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ffffff"/>
                </a:solidFill>
                <a:latin typeface="Arial"/>
              </a:rPr>
              <a:t>With computerised records now commonly used, it is regrettable that the collection of data for the Safety Report does not appear to be made in many countries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ffffff"/>
                </a:solidFill>
                <a:latin typeface="Arial"/>
              </a:rPr>
              <a:t>Countries are strongly encouraged to set up data collection systems, which are an essential part of risk assessment and are of value in dealing with sports and aviation authoriti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71640" y="479520"/>
            <a:ext cx="5905440" cy="69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ffffff"/>
                </a:solidFill>
                <a:latin typeface="Arial Unicode MS"/>
              </a:rPr>
              <a:t>2013 Safety Repor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186920" y="1699920"/>
            <a:ext cx="692964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39 </a:t>
            </a: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countries supplied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6,805,975 skydives were made b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,381,239 jump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 Unicode MS"/>
              </a:rPr>
              <a:t>              </a:t>
            </a:r>
            <a:r>
              <a:rPr b="0" lang="en-IE" sz="2800" spc="-1" strike="noStrike">
                <a:solidFill>
                  <a:srgbClr val="ffffff"/>
                </a:solidFill>
                <a:latin typeface="Arial Unicode MS"/>
              </a:rPr>
              <a:t>57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people were killed skydiv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(these figures include Tandems; there were no Tandem fatalities in 201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1 Fatality pe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i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i="1" lang="en-IE" sz="2400" spc="-1" strike="noStrike">
                <a:solidFill>
                  <a:srgbClr val="ffffff"/>
                </a:solidFill>
                <a:latin typeface="Arial Unicode MS"/>
              </a:rPr>
              <a:t>   </a:t>
            </a: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119,403 Jumps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   </a:t>
            </a: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24,232Jump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7" name="Picture 4" descr="logo_ipc_01_trait copie"/>
          <p:cNvPicPr/>
          <p:nvPr/>
        </p:nvPicPr>
        <p:blipFill>
          <a:blip r:embed="rId1"/>
          <a:stretch/>
        </p:blipFill>
        <p:spPr>
          <a:xfrm>
            <a:off x="7164360" y="404640"/>
            <a:ext cx="1513080" cy="114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4608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ffffff"/>
                </a:solidFill>
                <a:latin typeface="Arial Unicode MS"/>
              </a:rPr>
              <a:t>57 Fataliti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79912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9 Student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(16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0-25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0 Intermediate (17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26-250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38 Expert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(67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251 +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 5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Cutaway &amp; Low/No reserve pull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No pull/low pull on main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1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Other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4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 5</a:t>
            </a:r>
            <a:r>
              <a:rPr b="1" i="1" lang="en-US" sz="1800" spc="-1" strike="noStrike" u="sng">
                <a:solidFill>
                  <a:srgbClr val="ffffff"/>
                </a:solidFill>
                <a:uFillTx/>
                <a:latin typeface="Arial Unicode MS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0" name="Picture 7" descr="logo_ipc_01_trait copie"/>
          <p:cNvPicPr/>
          <p:nvPr/>
        </p:nvPicPr>
        <p:blipFill>
          <a:blip r:embed="rId7"/>
          <a:stretch/>
        </p:blipFill>
        <p:spPr>
          <a:xfrm>
            <a:off x="6732720" y="620640"/>
            <a:ext cx="1692000" cy="104004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6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64800" y="430200"/>
            <a:ext cx="5443560" cy="98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‘</a:t>
            </a: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Other’ Fatalities (44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69832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Fast Canopies - Intentional Fast Landing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1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Landing Error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           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       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No or Low Main Deployment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Unknown Cause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3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Freefall Collision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Canopy Collision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Equipment Issue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Main  Malfunction , no action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Jumper Fell from Harnes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Cutaway Good Canopy, no further action        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Drowning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Tail strike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CF wrap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   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 1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Main Malfunction, no action, AAD fired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but did not cut reserve closing loop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 1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 4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" name="Picture 5" descr="logo_ipc_01_trait copie"/>
          <p:cNvPicPr/>
          <p:nvPr/>
        </p:nvPicPr>
        <p:blipFill>
          <a:blip r:embed="rId15"/>
          <a:stretch/>
        </p:blipFill>
        <p:spPr>
          <a:xfrm>
            <a:off x="7093080" y="549360"/>
            <a:ext cx="1511280" cy="92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15640" y="980640"/>
            <a:ext cx="5832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700" spc="-1" strike="noStrike">
                <a:solidFill>
                  <a:srgbClr val="ffffff"/>
                </a:solidFill>
                <a:latin typeface="Arial Unicode MS"/>
              </a:rPr>
              <a:t>Fatalities – Largest Groups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4360" y="2351160"/>
            <a:ext cx="7991280" cy="38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Fast Canopies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4 - 25% of 5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2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No or Low pull on main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1 - 19% of  5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3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Landing Errors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7 – 12% of 5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Canopy handling issues, combined –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4 + 7 = 21 (37% of total fatalities, 57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Picture 5" descr="logo_ipc_01_trait copie"/>
          <p:cNvPicPr/>
          <p:nvPr/>
        </p:nvPicPr>
        <p:blipFill>
          <a:blip r:embed="rId4"/>
          <a:stretch/>
        </p:blipFill>
        <p:spPr>
          <a:xfrm>
            <a:off x="7093080" y="549360"/>
            <a:ext cx="1511280" cy="107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10920" y="417600"/>
            <a:ext cx="618156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ffffff"/>
                </a:solidFill>
                <a:latin typeface="Arial Unicode MS"/>
              </a:rPr>
              <a:t>Significant Figur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68000" y="1700280"/>
            <a:ext cx="800244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of the 57 fatalities , 42 (74%) appear to have occurred with the parachutist having at least one good parachute on his/her ba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of the 57 fatalities 26 (46%) occurred after the successful deployment of the main parachu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18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of the 57 fatalities  21 (37%) might have been avoided by AAD 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of the 57 fatalities  51 (89%) appear to have been caused by human err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6180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THREE of the 2013 Fatalities  (5% of 57) were First Jump Students</a:t>
            </a: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180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0" name="Picture 4" descr="logo_ipc_01_trait copie"/>
          <p:cNvPicPr/>
          <p:nvPr/>
        </p:nvPicPr>
        <p:blipFill>
          <a:blip r:embed="rId1"/>
          <a:stretch/>
        </p:blipFill>
        <p:spPr>
          <a:xfrm>
            <a:off x="7093080" y="476280"/>
            <a:ext cx="1439640" cy="100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ffffff"/>
                </a:solidFill>
                <a:latin typeface="Arial Unicode MS"/>
              </a:rPr>
              <a:t>Some Trends &amp; Issu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71640" y="1990800"/>
            <a:ext cx="7416720" cy="37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High percentage of fatalities, 21 (37% of 57) resulting from canopy handling, canopy control, and landing issu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Roughly similar percentage distribution of fatalities between Student/Intermediate/Expert as in previous years .  The category ‘Expert Skydiver’ continues to have the most fatalities, but it has the biggest numbers of jump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AAD and RSL now widely us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3" name="Picture 5" descr="logo_ipc_01_trait copie"/>
          <p:cNvPicPr/>
          <p:nvPr/>
        </p:nvPicPr>
        <p:blipFill>
          <a:blip r:embed="rId4"/>
          <a:stretch/>
        </p:blipFill>
        <p:spPr>
          <a:xfrm>
            <a:off x="6877080" y="620640"/>
            <a:ext cx="1440000" cy="10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ffffff"/>
                </a:solidFill>
                <a:latin typeface="Arial Unicode MS"/>
              </a:rPr>
              <a:t>Tandem - Sol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34152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s 18% of </a:t>
            </a:r>
            <a:r>
              <a:rPr b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all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jumps, Tandem + Sol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5,582,526 Solo jumps – 1,223,449 Tande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 Fatalities 0 ; Solo Fatalities 57 (100%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6" name="Picture 4" descr="logo_ipc_01_trait copie"/>
          <p:cNvPicPr/>
          <p:nvPr/>
        </p:nvPicPr>
        <p:blipFill>
          <a:blip r:embed="rId1"/>
          <a:stretch/>
        </p:blipFill>
        <p:spPr>
          <a:xfrm>
            <a:off x="6877080" y="549360"/>
            <a:ext cx="1440000" cy="9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</cp:lastModifiedBy>
  <dcterms:modified xsi:type="dcterms:W3CDTF">2015-01-22T16:03:18Z</dcterms:modified>
  <cp:revision>97</cp:revision>
  <dc:subject/>
  <dc:title>SAFETY &amp; TRAINING FORUM 25 January 2003</dc:title>
</cp:coreProperties>
</file>