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4A2E-A351-4E6D-AFAF-C9A096A47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21D80-6315-4F59-BDD6-E8AD181FD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8BA0A-3C3F-4C61-98BA-A53A35C7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CC19D-57FD-48F9-9A96-73158209B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FEE8F-5F18-40CD-9A2A-3106BFAB5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EB73-799E-468E-98AF-C56808579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40B3-37B1-4CAF-8A77-0F9ECDBE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CBA9-5691-40AD-BA36-B4BCA746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DB3C-C91F-4642-84F2-59B32056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5A43-C614-413E-A620-FDDD00D5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0197-8FE6-4DF4-B57F-E2624AAB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A4F0-F527-41CF-9679-6719FFFE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E4579-8C3C-443F-AB98-5A063CF7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5DA7-2E15-46F7-8EED-83D7331A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55DE-59A9-46E0-8AF2-971C5FA2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776C-EC87-4948-8670-F9B4E5CD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9EE6-3E2F-493D-AA20-D217E52B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80A0-2ADE-488F-B549-0AE1BB65E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7F9C8-3007-4F68-BB4A-2F95ADEA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95E0D-A83B-4D54-847D-6FBA2A51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643C3-6437-4E92-9400-9FBCE026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EC274-683F-42AA-BF2B-7EEFD456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FF83A-590D-4ECA-A330-92CB2F29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7C418-D1BF-4733-84D4-99915A11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9E86A-4BC1-4493-AFF7-3C0EB85A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D86C-306B-42EE-A93D-63DD6DD804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D6D5-8072-4A9C-887A-1B51689A1D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3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9 responding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2 people were killed skydiv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335,624 skydives were made 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02,513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7,263 jum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909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82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17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8 Intermed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34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0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55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urn from 800m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Main/Reserve downplan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Heart attack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 unconscious, landed on hard surfac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deflated close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Reserve malfunct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’s feet entangled in lin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Possible suicid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Suspected murde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uses not reporte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5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0516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8% (15)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Cut-away &amp; low reserve pu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No or low pull on m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6%  (5) Freefall colli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6%  (5) Cut-away and no reserve pull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9% of 65 fatalities (17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9% of 82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0% of fatalities (16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7% of fatalities (63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82 Fatalities were First Jump Students (1 Solo and 1 Tandem Passenger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000" y="1557000"/>
            <a:ext cx="8218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his report, along with 2003 AAD Report, and Power Point presentations for both reports, has been sent by e-mail to all respondents and to all other countries for which we have e-mail addresse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Ds with the reports and presentations are available to IPC delegates and to those who request copies. delegat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Blue Skies – or Grey Concrete!!!</a:t>
            </a:r>
            <a:br>
              <a:rPr sz="3600"/>
            </a:br>
            <a:r>
              <a:rPr b="1" lang="en-IE" sz="1600" spc="-1" strike="noStrike">
                <a:solidFill>
                  <a:srgbClr val="e5e5ff"/>
                </a:solidFill>
                <a:latin typeface="Arial"/>
              </a:rPr>
              <a:t>Thanks to Rix at Skydive Zimbabwe for permission to use this photograph.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5-01-15T11:01:13Z</dcterms:modified>
  <cp:revision>20</cp:revision>
  <dc:subject/>
  <dc:title>SAFETY &amp; TRAINING FORUM 25 January 2003</dc:title>
</cp:coreProperties>
</file>