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07325-D82C-4404-AC52-D72511B6CA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387E-D988-4E93-A693-3452CFC90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DACA-AAB9-4CE6-B6B5-C6E006E1F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FC09-D952-4358-B5C3-0DC1940BB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4E6E-9C0C-42B9-811B-9B9B81F14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0EC557-4765-4532-A3F3-0870B1B6F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3AC13F-0F98-4E17-BF77-7998A7C33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F69838-58D8-4337-A7C7-A2193419C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25A2BE-8FA8-4377-BEFB-59A2F99EB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56F1DD-6196-4F64-AB8D-E3A14F6F6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41BDBF-909C-420F-A911-EE5FDAB6D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AA3E96-8485-4F72-8762-C9195285F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62BE-55FF-4B20-BC0A-F8DDA6478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B3789D-BF9F-474B-A560-F8012284B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A44363-D517-4EDC-883C-7BF71BFE9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8FBE42-7465-456F-B1B1-BD26C1A06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29CEAF-114C-4558-B188-6E27E3A56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F33B78-DF49-4BE9-B14F-043E9C7D9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DFDC-BB10-4A44-992B-FFBD3F056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905B-1B20-4DC3-8DE2-8984FAFAD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B46C-AF72-4D60-95C3-B71066980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5A72-3F41-4BE4-A22A-A2F7B148C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D781-366A-4D8C-888A-67120246C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B519-A3A5-49F4-8002-B21B2C529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45FD-0AA0-4AC1-A3E1-3DE904BA6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8B77D-C92C-4F3F-9760-60227E5E8F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08F07-C2A3-4045-913B-CA47CC11F1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TECHNICAL &amp; SAFETY COMMITTEE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899640" y="3886200"/>
            <a:ext cx="75596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International Parachuting Commissi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FA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9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IE" sz="4800" spc="-1" strike="noStrike">
                <a:solidFill>
                  <a:srgbClr val="ffffff"/>
                </a:solidFill>
                <a:latin typeface="Tahoma"/>
              </a:rPr>
              <a:t>2001 Safety Report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In 31 responding countr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92 people were killed skydiv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6.872,438 skydives were mad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417,202 jump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1 Fatality per</a:t>
            </a:r>
            <a:r>
              <a:rPr b="1" lang="en-IE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74,700 jump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4,534 jump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768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" dur="768" fill="hold"/>
                                        <p:tgtEl>
                                          <p:spTgt spid="9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" dur="768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" dur="768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5400" spc="-1" strike="noStrike">
                <a:solidFill>
                  <a:srgbClr val="ffffff"/>
                </a:solidFill>
                <a:latin typeface="Tahoma"/>
              </a:rPr>
              <a:t>92 Fatalities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27 Students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(29%)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0-25 Freefa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23 Interm.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(25%)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26-250 Freefa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42 Experts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(46%)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251+ Freefa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Cutaway/No or low reserve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1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No pull/low pull on main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1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Others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6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768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" dur="768" fill="hold"/>
                                        <p:tgtEl>
                                          <p:spTgt spid="9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" dur="768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" dur="768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ff"/>
                </a:solidFill>
                <a:latin typeface="Tahoma"/>
              </a:rPr>
              <a:t>‘</a:t>
            </a:r>
            <a:r>
              <a:rPr b="0" lang="en-IE" sz="4400" spc="-1" strike="noStrike">
                <a:solidFill>
                  <a:srgbClr val="ffffff"/>
                </a:solidFill>
                <a:latin typeface="Tahoma"/>
              </a:rPr>
              <a:t>Other ‘ Fatalities (64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Fast Canopies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1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Main/reserve Entanglements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1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Other Landing Errors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2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Canopy Collision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Main Mal. – no cutaway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Freefall Collision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Tandem Fatalities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Jumpers striking aircraft in air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Medical (Heart attacks)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Canopy Collapse near Ground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Reserve mal.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Suicide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Strangulation by reserve riser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Unknown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ff"/>
                </a:solidFill>
                <a:latin typeface="Tahoma"/>
              </a:rPr>
              <a:t>Fatalities – Largest Group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24% Other Landing Err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14% Fast Canop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14% Low Cutaway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13% Main/Reserve Entangle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13% No/low Main Canopy Activation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en-IE" sz="4800" spc="-1" strike="noStrike">
                <a:solidFill>
                  <a:srgbClr val="ffffff"/>
                </a:solidFill>
                <a:latin typeface="Tahoma"/>
              </a:rPr>
              <a:t>Some Significant Figure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7616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Tahoma"/>
              </a:rPr>
              <a:t>84% of the fatalities occurred with the parachutist having at least one good parachute on his/her back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76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7616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Tahoma"/>
              </a:rPr>
              <a:t>40% after the successful deployment of the main parachu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69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7616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000" spc="-1" strike="noStrike">
                <a:solidFill>
                  <a:srgbClr val="ffffff"/>
                </a:solidFill>
                <a:latin typeface="Tahoma"/>
              </a:rPr>
              <a:t>35% of fatalities might have been avoided by AAD us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69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7616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Tahoma"/>
              </a:rPr>
              <a:t>94% of fatalities would appear to have been caused by human erro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76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76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69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693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Tahoma"/>
              </a:rPr>
              <a:t>12 of the 92 Fatalities were First Jump Studen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93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ff"/>
                </a:solidFill>
                <a:latin typeface="Tahoma"/>
              </a:rPr>
              <a:t>Noticeable Trend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Increased use of AA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Round Main Canopies being used l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Big movement towards Tandem jump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Report, along with 2001 AAD Report, has been sent by e-mail to all respondents and to all other countries for which we have e-mail addresses.  Hard copies are now available for delegat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03-01-29T10:35:12Z</dcterms:modified>
  <cp:revision>7</cp:revision>
  <dc:subject/>
  <dc:title>SAFETY &amp; TRAINING FORUM 25 January 2003</dc:title>
</cp:coreProperties>
</file>