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A9075-B1A1-46BA-A008-B1403B485A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09470-0AEE-40F8-BA6B-7EF69BDF4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0F878-EE71-44FA-B81B-4F948A320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254E8-1B05-4F4D-A964-69EE1EC7B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ABC26-FE9D-46D7-9F32-A98E91D78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1C33C-4FFA-4A4C-96C0-979001395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DC91F-1F4B-4D76-9D3D-B6DF898A2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544BC-F279-42DD-8979-B360F3052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179F6-8C20-4C1C-B04B-BA0C644C4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0C073-BFD7-4DD5-A5A4-D5C88716D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6F33A-0698-499B-9C75-4A1E71879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05A1A-DD8A-4AF7-8C4E-F4FC9F731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A76B0-E50E-495D-BF03-04BD2128A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3D3D9-783B-457F-A047-C5DE72E8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83805-D62E-4B25-825F-D9276CBE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D3A6E-5E5D-4BCA-B28D-646EED10F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F560D-FC3D-4FAE-B6B8-2D7B6CF43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5965F-1EBB-4D0C-8F75-8294AA9B7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CD9B9-0838-46CB-B569-C29CE3E80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53F78-ACF3-420C-9182-4601D4D28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636CE-F256-43D7-88AB-C3DC14895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7BF01-A7E1-4ADA-B458-0181016EE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F411A-FCE8-4B5E-AF31-A800BC53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F7380-2CB8-4FD1-829C-53171C1F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495EC-4AE2-45E8-B174-A8C60E14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D34B0-D41F-4E57-B5A1-4937E86CD46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8C6E2-BACF-4A8A-8640-78FD50418A2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e5e5ff"/>
                </a:solidFill>
                <a:latin typeface="Arial Unicode MS"/>
              </a:rPr>
              <a:t>TECHNICAL &amp; SAFETY COMMITTEE</a:t>
            </a:r>
            <a:br>
              <a:rPr sz="4800"/>
            </a:b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588000" y="260280"/>
            <a:ext cx="208764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640" y="353880"/>
            <a:ext cx="590544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e5e5ff"/>
                </a:solidFill>
                <a:latin typeface="Arial Unicode MS"/>
              </a:rPr>
              <a:t>2007 Safety Report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6920" y="1989000"/>
            <a:ext cx="69296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Garamond"/>
              </a:rPr>
              <a:t>41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6,222,629 skydives were made b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837,831 jump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68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8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91,509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,321 jump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236000" y="404640"/>
            <a:ext cx="169200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e5e5ff"/>
                </a:solidFill>
                <a:latin typeface="Arial Unicode MS"/>
              </a:rPr>
              <a:t>68 Fataliti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6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4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6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4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6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53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68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1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68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093080" y="404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63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e5e5ff"/>
                </a:solidFill>
                <a:latin typeface="Arial Unicode MS"/>
              </a:rPr>
              <a:t>‘</a:t>
            </a:r>
            <a:r>
              <a:rPr b="0" lang="en-IE" sz="3600" spc="-1" strike="noStrike">
                <a:solidFill>
                  <a:srgbClr val="e5e5ff"/>
                </a:solidFill>
                <a:latin typeface="Arial Unicode MS"/>
              </a:rPr>
              <a:t>Other’ Fatalities (52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4232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ollision under open Canopi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/Reserve Entanglement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Malfunction, no Reserve Activat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No Main Activation, too low Reserve Activat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Drow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Dragged on Land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Hard Ope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Reserve opened at Aircraft Door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Unknow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otal 5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16436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620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 Unicode MS"/>
              </a:rPr>
              <a:t>Fatalities – Largest Group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70400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2% (15 of 68) Other Landing Erro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6% (11) Fast Canop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0% (7) Cutaway and no Reserve Deploy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"/>
          <p:cNvSpPr/>
          <p:nvPr/>
        </p:nvSpPr>
        <p:spPr>
          <a:xfrm>
            <a:off x="826920" y="981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e5e5ff"/>
                </a:solidFill>
                <a:latin typeface="Arial Unicode MS"/>
              </a:rPr>
              <a:t>Some Significant Figur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000" y="1917720"/>
            <a:ext cx="80024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2 of the 68 fatalities (47%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4 of the 68 fatalities (50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6 of the 68 fatalities (24%) might have been avoided by AAD us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55 of the 68 fatalities (81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5 of the 68 Fatalities were First Jump Studen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2 of the 68 Fatalities were Tandem, Instructor &amp; Studen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 Unicode MS"/>
              </a:rPr>
              <a:t>Some Trends &amp; Issue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71640" y="1844280"/>
            <a:ext cx="74167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numbers of fatalities resulting from landing and handling canopies – a continuing issu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talities from Medical Issues, 6 – 12%, appears to be a more apparent factor in recent years.  This may point to an ageing skydiving population or other factors may be involve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6 - 24% of fatalities in 2007 may have been avoided by the use of AA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e5e5ff"/>
                </a:solidFill>
                <a:latin typeface="Arial Unicode MS"/>
              </a:rPr>
              <a:t>Tandem - Solo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9.6% of all jumps, Tandem &amp; Solo jumps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2.2% in 2006; 10.4% in 200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5,624,395 Solo jumps – 598,234 Tandem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0 :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 :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5.5 :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2 (3%)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Solo Fatalities 66 (97%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Garamond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This report, along with 2007 AAD Report, and Power Point presentations for both reports, has been sent by e-mail to all respondents and to all other countries for which we have e-mail addresses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Garamond"/>
              </a:rPr>
              <a:t>The CD has the following -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AAD Report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AAD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Information Notices (8) issued in 2008 by T &amp; S Committe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Safety Survey 2008 Form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Safety Survey 2008 Notes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AAD Survey 2008 For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Garamond"/>
              </a:rPr>
              <a:t>APPEAL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Garamond"/>
              </a:rPr>
              <a:t>Those countries who did not report for 2007 are earnestly requested to make a special effort to do so for 2008.  The compilation of data is to the benefit of the country gathering same, not only to IPC and the worldwide skydiving community</a:t>
            </a: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059600" y="388800"/>
            <a:ext cx="1601640" cy="9302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826920" y="62064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09-01-22T12:15:24Z</dcterms:modified>
  <cp:revision>56</cp:revision>
  <dc:subject/>
  <dc:title>SAFETY &amp; TRAINING FORUM 25 January 2003</dc:title>
</cp:coreProperties>
</file>