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E6F6-1A28-4564-89FC-1C1AABCBF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2FAB-175E-4889-A642-5FBB3C982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4C52-4FE3-495F-9904-89A6E8055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9940-411C-47EF-B9E3-525BDD90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E371-2322-4B5F-9E0C-E322B7922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97D4-5B0C-4287-BA31-73A42C00B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D98BF-F2CD-422C-AC51-51AED87B5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6891-D2AC-49D6-990C-0521ADE2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572F5-FB4A-4D78-88B8-E460102F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01536-2983-4BDE-93C1-FD64D87E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204B-7C14-4E9B-A55B-677506C8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6FD6D-DD60-4B8A-9D66-0BEF00F4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2776-A73F-4EF4-B7A5-84AE822F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68E3-1CC0-490F-B551-FD0F47C7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59B1-B8A4-4106-A10E-107B8C0A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467D2-069F-436A-A1D2-FC50A521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07C63-5E6F-44E0-B280-AF34F4A8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E89D-E29E-4E33-82A4-AC76DB60C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C70B-F165-481A-AF80-CB6F4F762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6FCC2-F206-4B75-854D-BED3E99FE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4A5C2-0FD7-4ED4-BBBC-57CB4E14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EDCB3-2A84-43FB-BD63-FC47E944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9EF7E-3DA0-4F4C-AA01-1F4F71F1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A76C9-2EBB-4558-A2BE-B81A8713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6C80-E1DA-499E-AA35-98B4E530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B2496-C5F7-4D8C-AD12-BE7BFB3C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88C03-A7FB-4768-97EF-44F87ED8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D26D7-DCCD-4705-BE6F-A2BDC2D3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EAF34-3E16-40E7-AC50-C759940F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B725C-757E-4FF9-A0AE-86574550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994FD-1D84-4DF7-8EF8-65E608A59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24C90-1FD2-4469-AB20-94EB477E6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E1D39-8386-4738-96EB-9CA42F810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F9235-F3BA-494D-945B-F878ADDC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E8F89-CA22-4883-BAE6-323952CF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A3AB-85C9-4947-8B9F-E8A4F822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05655-2E19-482F-946C-3F5EEDD9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40FFB-CB78-4386-BF21-96C40441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A15DA-EEA2-4B69-8AA8-C418D4D1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35E3F-EE35-4DBC-885D-469D678F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A9A70-6EA8-4D52-8FA9-709538EC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FC8DD-F569-40E6-8D51-FDA115F8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B3856-007F-48DD-A0A6-D865E011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5892E-D59B-4DD0-B02C-F6E2F15B6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B994B-D4FC-4FFA-8440-7B1839A12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CEC1-380E-4783-BFCD-4AC9B7C0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66A6-3114-4C8B-B0B0-F14FD56A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684C-E364-42B7-A87A-42460719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9A66-BA86-4D28-9DA7-6FEEE58B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88A9-9351-4637-AB0A-DBC95A33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DE9F-E0C5-4866-ACE2-CEA4A66B565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700F-156B-42E9-AB94-4E3FFD82439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B790-8BAE-4859-AC93-D5023F70B6B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7BC3-3597-486F-BA61-6166B132EF7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 (1) issued in 2017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7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6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7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40 countries responded, from a possible approximately 85, a response rate of 47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9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6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0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7,523,610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75,159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9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w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6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92,913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5,260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9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5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9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3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mera 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in Heavy Turbulence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ircraft Strik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tudent is severe spin on back, unconscious -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AD fired, reserve had twis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eath due to 42g spin or ground impact under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6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- 21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8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13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5 (38% of total fatalities, 39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9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 (5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ne of the 2016 fatalities was a First Jump Student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5 (38% of 39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6.1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,313,878 Solo jumps – 1,209,732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2; Solo Fatalities 37 (39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01-21T17:01:29Z</dcterms:modified>
  <cp:revision>118</cp:revision>
  <dc:subject/>
  <dc:title>SAFETY &amp; TRAINING FORUM 25 January 2003</dc:title>
</cp:coreProperties>
</file>