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0.jpeg" ContentType="image/jpeg"/>
  <Override PartName="/ppt/media/image5.png" ContentType="image/png"/>
  <Override PartName="/ppt/media/image16.jpeg" ContentType="image/jpeg"/>
  <Override PartName="/ppt/media/image15.jpeg" ContentType="image/jpe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7D69A-0B16-426D-A867-2746EA1C5B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7336B-5156-4A26-836A-6007B07980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2BFC9-55CE-450B-93BB-77D11A73A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1CB5A-F013-4C1E-ACF5-B9C614F81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F012D-E3F5-4682-A0F8-0DC1AD892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72D4F-D649-4320-BD2F-6DFA77093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E9E9F-14EB-4CE2-BEF1-A417A2EC0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1420A-3030-4BDE-B5D9-3563903C4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0E278-50A7-4791-978C-60CE148E4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64C12-EC04-41D6-99FE-849FD298E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FD16E-BE94-437C-A7D1-E0AEB5795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20687-DF1F-421E-8B76-9A1120E72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219A6-EBB3-4D24-90A4-EA2955EE9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3C497-5D32-45C1-9518-A69E83037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7CE75-6E2B-4CE7-9EE8-AD8001870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9630C-D05C-4491-82C2-85800055D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52182-3080-4E51-A776-B24B616C6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0FF52-4C35-464C-AF44-4564CB710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1DF26-FE05-44CE-B6F9-27D36E290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26503D-D4C7-4E54-9C9A-8B0D2F749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4175D7-7036-42FA-94BE-462747517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5D3B4C-C9B3-4FA1-9982-0567F775E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5FDC67-BA7B-4F3C-B9A8-1336915C3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B6E631-F7D0-4363-984A-95385A983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0CED7-24F5-4D99-BD9A-645CEA575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64A10E-8097-4283-934C-64F23DCAA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65C8E6-9100-41FE-9438-4A128C689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C7DD79-C765-4888-B41D-BD1F16FF7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23F68C-A406-4482-A562-21C59A4BC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F5CFB7-8963-4790-B2B1-3B2E4F096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10E082-C99B-46F4-AAB2-F0DC8BC69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BF2A90-76E4-456F-B6A9-9EC756844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F4F4AB-CFFF-47A5-95AB-4AD23769E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12B6A5-4F46-489A-B509-B69FA6F9F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BB146E-483B-4ACD-AB58-004603EE7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DF2AD-323E-4944-BD1D-A6EAF254B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659484-3BE7-4D12-AB19-8FD1102B3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12DEA0-4321-45D1-B945-F671635EC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754BFD-776C-468B-AE2B-536B5F56D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411041-DAFD-4D43-B775-4D4F159F6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0413FF-0D5E-4397-AC37-0412BD8A3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3AB38E-198C-4DA1-A9CE-24393D3E6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A7FB55-24C4-40E3-AC1A-0AA99E27A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AB3174-FA25-478D-BE5B-A8FEAEEBC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3479D1-9D5D-465C-AEAA-7F60F08BB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D2A67-6340-4BC4-B6F2-3F1DC8910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44E74-C5A2-45E5-A76A-A4736CEBC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C3DD9-39C6-48D0-A21D-B021F58D3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58369-282D-4529-A590-F39C1F048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CF542-8D76-4F74-9B8E-6CE3725C7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26CA4-4EEA-41BC-9309-167C8F3B5C8F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3864E-252A-44F3-B150-235D4A041D81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842AD-7CBE-4D66-B217-B7B5ED4CE0AC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FE957-D4D1-4712-8717-2388F15A6544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Rectangle 2" descr=""/>
          <p:cNvPicPr/>
          <p:nvPr/>
        </p:nvPicPr>
        <p:blipFill>
          <a:blip r:embed="rId1"/>
          <a:stretch/>
        </p:blipFill>
        <p:spPr>
          <a:xfrm>
            <a:off x="822240" y="1841400"/>
            <a:ext cx="8407440" cy="195588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2484000" y="3499920"/>
            <a:ext cx="6480360" cy="15843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600" spc="-1" strike="noStrike">
                <a:solidFill>
                  <a:srgbClr val="ffffff"/>
                </a:solidFill>
                <a:latin typeface="Arial Unicode MS"/>
              </a:rPr>
              <a:t>International Parachuting Commission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600" spc="-1" strike="noStrike">
                <a:solidFill>
                  <a:srgbClr val="ffffff"/>
                </a:solidFill>
                <a:latin typeface="Arial Unicode MS"/>
              </a:rPr>
              <a:t>FAI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4" name="Text Box 4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logo_ipc_01_trait copie"/>
          <p:cNvPicPr/>
          <p:nvPr/>
        </p:nvPicPr>
        <p:blipFill>
          <a:blip r:embed="rId2"/>
          <a:stretch/>
        </p:blipFill>
        <p:spPr>
          <a:xfrm>
            <a:off x="6588000" y="476280"/>
            <a:ext cx="1729080" cy="107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8" descr="logo_ipc_01_trait copie"/>
          <p:cNvPicPr/>
          <p:nvPr/>
        </p:nvPicPr>
        <p:blipFill>
          <a:blip r:embed="rId1"/>
          <a:stretch/>
        </p:blipFill>
        <p:spPr>
          <a:xfrm>
            <a:off x="7451640" y="549360"/>
            <a:ext cx="1230480" cy="86364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 txBox="1"/>
          <p:nvPr/>
        </p:nvSpPr>
        <p:spPr>
          <a:xfrm>
            <a:off x="899640" y="1557360"/>
            <a:ext cx="75438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is report, along with this and Power Point presentation, has been sent by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e-mail to all respondents and to all other countries for which the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&amp;S Committee has e-mail addresses. 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CDs are available to IPC Delegates and to Technical and Safety Officers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who request copies. 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Tahoma"/>
              </a:rPr>
              <a:t>Distribution of Reports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he CD has the following material -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2014 Safety Survey Report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2014 Safety Survey Report Power Point Presentation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Safety Survey 2015 Form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Safety Survey 2015 Notes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Information Notices (3) issued in 2015 by the IPC’s Technical &amp; Safety Committee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PPEAL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ose countries who did not report for 2014 are requested to make a special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effort to do so for 2015.  The compilation of data is to the benefit of the country gathering same,  and to the worldwide skydiving community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Text Box 10"/>
          <p:cNvSpPr/>
          <p:nvPr/>
        </p:nvSpPr>
        <p:spPr>
          <a:xfrm>
            <a:off x="1476360" y="76500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0000"/>
                </a:solidFill>
                <a:latin typeface="Tahoma"/>
              </a:rPr>
              <a:t>Distribution of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Title 1" descr=""/>
          <p:cNvPicPr/>
          <p:nvPr/>
        </p:nvPicPr>
        <p:blipFill>
          <a:blip r:embed="rId1"/>
          <a:stretch/>
        </p:blipFill>
        <p:spPr>
          <a:xfrm>
            <a:off x="450720" y="463680"/>
            <a:ext cx="8686800" cy="115704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468000" y="2133720"/>
            <a:ext cx="8280360" cy="345600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37 countries responded, from a possible approximately 85, a response rate of 44%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The response rate was similar to previous years and has been about this rate for the 27 years of the Safety Survey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Once again countries are encouraged to put in place systems for the collection of the type of data in this report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Such data is invaluable  - for use by parachuting organisations, dropzones, those involved in the areas of technical and safety matters, and when dealing with authorities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71640" y="479520"/>
            <a:ext cx="5905440" cy="699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300" spc="-1" strike="noStrike">
                <a:solidFill>
                  <a:srgbClr val="04617b"/>
                </a:solidFill>
                <a:latin typeface="Arial Unicode MS"/>
              </a:rPr>
              <a:t>2014 Safety Report</a:t>
            </a:r>
            <a:endParaRPr b="0" lang="en-US" sz="43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86920" y="1699920"/>
            <a:ext cx="692964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IE" sz="3200" spc="-1" strike="noStrike">
                <a:solidFill>
                  <a:srgbClr val="000000"/>
                </a:solidFill>
                <a:latin typeface="Arial"/>
                <a:ea typeface="Arial"/>
              </a:rPr>
              <a:t>37 countries supplied data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6,237,725 skydives were made by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1,314,867 jumper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31 people were killed skydiving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(these figures include Tandems; there were three Tandem fatalities in 2014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1 Fatality per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201,207 Jumps   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42,415  Jumpe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0" name="Picture 4" descr="logo_ipc_01_trait copie"/>
          <p:cNvPicPr/>
          <p:nvPr/>
        </p:nvPicPr>
        <p:blipFill>
          <a:blip r:embed="rId1"/>
          <a:stretch/>
        </p:blipFill>
        <p:spPr>
          <a:xfrm>
            <a:off x="7164360" y="404640"/>
            <a:ext cx="1513080" cy="114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4608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04617b"/>
                </a:solidFill>
                <a:latin typeface="Arial Unicode MS"/>
              </a:rPr>
              <a:t>31 Fatalities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79912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3 Students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(10%)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0-25 Freefal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7 Intermediate   (23%)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26-250 Freefal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21 Experts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(68%)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251 + Freefal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 3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Cutaway &amp; Low/No reserve pull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4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No pull/low pull on main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2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Others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25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 3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3" name="Picture 7" descr="logo_ipc_01_trait copie"/>
          <p:cNvPicPr/>
          <p:nvPr/>
        </p:nvPicPr>
        <p:blipFill>
          <a:blip r:embed="rId1"/>
          <a:stretch/>
        </p:blipFill>
        <p:spPr>
          <a:xfrm>
            <a:off x="6732720" y="620640"/>
            <a:ext cx="1692000" cy="104004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6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64800" y="430200"/>
            <a:ext cx="544356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4617b"/>
                </a:solidFill>
                <a:latin typeface="Arial Unicode MS"/>
              </a:rPr>
              <a:t>‘</a:t>
            </a:r>
            <a:r>
              <a:rPr b="1" lang="en-IE" sz="3600" spc="-1" strike="noStrike">
                <a:solidFill>
                  <a:srgbClr val="04617b"/>
                </a:solidFill>
                <a:latin typeface="Arial Unicode MS"/>
              </a:rPr>
              <a:t>Other’ Fatalities (25)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99640" y="1628640"/>
            <a:ext cx="698364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Fast Canopies - Intentional Fast Landing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6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Equipment Related Issue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4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Canopy Collision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4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Tandem Fatalitie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3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Freefall Collision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2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Incorrect Emergency procedure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1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Reserve bridle entanglement with camera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helmet after unstable reserve activation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Medical Issue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Main malfunction, no action     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Low radical turn, high impact with water,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causing lung damage and death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1  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Instability, no Main deployment, AAD activated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reserve, freebag caught on jumper, insufficient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height for reserve deployment, reserve lines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trapped under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jumper’s arm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 Unicode MS"/>
              </a:rPr>
              <a:t>  1            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700" spc="-1" strike="noStrike" u="sng">
                <a:solidFill>
                  <a:srgbClr val="000000"/>
                </a:solidFill>
                <a:uFillTx/>
                <a:latin typeface="Arial Unicode MS"/>
              </a:rPr>
              <a:t>Total  25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7" name="Picture 5" descr="logo_ipc_01_trait copie"/>
          <p:cNvPicPr/>
          <p:nvPr/>
        </p:nvPicPr>
        <p:blipFill>
          <a:blip r:embed="rId1"/>
          <a:stretch/>
        </p:blipFill>
        <p:spPr>
          <a:xfrm>
            <a:off x="7093080" y="549360"/>
            <a:ext cx="1511280" cy="92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15640" y="980640"/>
            <a:ext cx="5832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700" spc="-1" strike="noStrike">
                <a:solidFill>
                  <a:srgbClr val="04617b"/>
                </a:solidFill>
                <a:latin typeface="Arial Unicode MS"/>
              </a:rPr>
              <a:t>Fatalities – Largest Groups</a:t>
            </a:r>
            <a:endParaRPr b="0" lang="en-US" sz="37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4360" y="2133720"/>
            <a:ext cx="7991280" cy="38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Fast Canopies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6 - 19% of 31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2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Equipment relates issu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and Canopy Collision – each at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4 – 13% of 31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3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 Fatalitie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3 – 10% of 31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anopy handling issues, combined –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2 (39% of total fatalities, 31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0" name="Picture 5" descr="logo_ipc_01_trait copie"/>
          <p:cNvPicPr/>
          <p:nvPr/>
        </p:nvPicPr>
        <p:blipFill>
          <a:blip r:embed="rId1"/>
          <a:stretch/>
        </p:blipFill>
        <p:spPr>
          <a:xfrm>
            <a:off x="7093080" y="549360"/>
            <a:ext cx="1511280" cy="107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10920" y="417600"/>
            <a:ext cx="6181560" cy="9525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5000" spc="-1" strike="noStrike">
                <a:solidFill>
                  <a:srgbClr val="04617b"/>
                </a:solidFill>
                <a:latin typeface="Arial Unicode MS"/>
              </a:rPr>
              <a:t>Significant Figur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68000" y="1916280"/>
            <a:ext cx="800244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00280" indent="-343080" algn="ctr">
              <a:lnSpc>
                <a:spcPct val="80000"/>
              </a:lnSpc>
              <a:spcBef>
                <a:spcPts val="601"/>
              </a:spcBef>
              <a:buClr>
                <a:srgbClr val="e2d700"/>
              </a:buClr>
              <a:buSzPct val="85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OF THE 31 FATALITI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20 (65%) appear to have occurred with the parachutist having at least one good parachute on his/her back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11 (35%) occurred after the successful deployment of the main parachute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5 (16%) might have been avoided by AAD use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23 (74%) appear to have been caused by human error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900" spc="-1" strike="noStrike">
                <a:solidFill>
                  <a:srgbClr val="000000"/>
                </a:solidFill>
                <a:latin typeface="Arial Unicode MS"/>
              </a:rPr>
              <a:t>                </a:t>
            </a:r>
            <a:r>
              <a:rPr b="1" i="1" lang="en-IE" sz="1900" spc="-1" strike="noStrike" u="sng">
                <a:solidFill>
                  <a:srgbClr val="000000"/>
                </a:solidFill>
                <a:uFillTx/>
                <a:latin typeface="Arial Unicode MS"/>
              </a:rPr>
              <a:t>None of the 2014 Fatalities were First Jump Students</a:t>
            </a:r>
            <a:r>
              <a:rPr b="1" i="1" lang="en-IE" sz="19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i="1" lang="en-IE" sz="19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3" name="Picture 4" descr="logo_ipc_01_trait copie"/>
          <p:cNvPicPr/>
          <p:nvPr/>
        </p:nvPicPr>
        <p:blipFill>
          <a:blip r:embed="rId1"/>
          <a:stretch/>
        </p:blipFill>
        <p:spPr>
          <a:xfrm>
            <a:off x="7093080" y="476280"/>
            <a:ext cx="1439640" cy="100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4617b"/>
                </a:solidFill>
                <a:latin typeface="Arial Unicode MS"/>
              </a:rPr>
              <a:t>Some Trends &amp; Issues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71640" y="1990800"/>
            <a:ext cx="7416720" cy="37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ontinuing high percentage of fatalities, 12 (39% of 31) resulting from canopy handling, canopy control, and landing issu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Roughly similar percentage distribution of fatalities between Student/Intermediate/Expert as in previous years .  The category ‘Expert Skydiver’ continues to have the most fatalities, but it has the biggest numbers of jump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AAD and RSL  are both now widely used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6" name="Picture 5" descr="logo_ipc_01_trait copie"/>
          <p:cNvPicPr/>
          <p:nvPr/>
        </p:nvPicPr>
        <p:blipFill>
          <a:blip r:embed="rId1"/>
          <a:stretch/>
        </p:blipFill>
        <p:spPr>
          <a:xfrm>
            <a:off x="6877080" y="620640"/>
            <a:ext cx="1440000" cy="10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04617b"/>
                </a:solidFill>
                <a:latin typeface="Arial Unicode MS"/>
              </a:rPr>
              <a:t>Tandem - Solo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539640" y="2276640"/>
            <a:ext cx="8229600" cy="3341520"/>
          </a:xfrm>
          <a:prstGeom prst="rect">
            <a:avLst/>
          </a:prstGeom>
          <a:noFill/>
          <a:ln w="9360">
            <a:solidFill>
              <a:srgbClr val="0f6fc6"/>
            </a:solidFill>
            <a:miter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s 19% of </a:t>
            </a:r>
            <a:r>
              <a:rPr b="1" lang="en-IE" sz="2400" spc="-1" strike="noStrike" u="sng">
                <a:solidFill>
                  <a:srgbClr val="000000"/>
                </a:solidFill>
                <a:uFillTx/>
                <a:latin typeface="Arial Unicode MS"/>
              </a:rPr>
              <a:t>all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jumps, Tandem + Sol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5,075,020 Solo jumps – 1,162,705 Tandem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 Fatalities 3 ; Solo Fatalities 28 (31 total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9" name="Picture 4" descr="logo_ipc_01_trait copie"/>
          <p:cNvPicPr/>
          <p:nvPr/>
        </p:nvPicPr>
        <p:blipFill>
          <a:blip r:embed="rId1"/>
          <a:stretch/>
        </p:blipFill>
        <p:spPr>
          <a:xfrm>
            <a:off x="6877080" y="549360"/>
            <a:ext cx="1440000" cy="9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</cp:lastModifiedBy>
  <dcterms:modified xsi:type="dcterms:W3CDTF">2016-01-14T20:42:49Z</dcterms:modified>
  <cp:revision>105</cp:revision>
  <dc:subject/>
  <dc:title>SAFETY &amp; TRAINING FORUM 25 January 2003</dc:title>
</cp:coreProperties>
</file>