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DBAD-36A3-49DE-A4BD-39ECCA860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D7164-4B97-405A-BE74-30FE9BE3D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F9432-B5AC-48D6-AABC-34AA80D3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FBE37-7D28-42D5-8FFD-AC69B995F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6ACFC-E9CF-4058-B2D2-9EC98DF29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2EE8-2104-41D2-A44A-04506FE9A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D68A-9B97-4500-AF10-C6DF7F54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6F81-FE96-4A27-AAFE-2BA99DDD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1EBE-84A3-4ACB-84D5-9A0A2231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AA08-B667-4B13-A310-99C5FC88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D30E-01DD-4908-BF17-B93E6B14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7859-9765-4A16-AFF1-B8FE09ED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31B10-799A-441A-8C59-D3AADA46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A22F-EA26-4207-976A-DB0B25A6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BE24-CE40-4AD8-B49D-86940D9A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5F3F-B289-4BFB-8A15-F08105D3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D09F-C82D-4CEF-8A62-397BF2330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1406-7857-43AE-AE83-3D70EC208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0A4C4-1F36-4EC8-8A6F-B47F757E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6EC5D-55A9-4C28-BC41-E718576F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69311-0250-450C-B5F4-14237C20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2942F-D1C0-490C-9DAC-6F665B85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12CF5-99EF-429C-B809-C5242B40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FE4A7-4686-4D76-96B0-00489490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BE57D-2910-4AD6-9120-E26A8A99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CCFB-E3BA-4524-A408-36A07CF7E5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37CA-5CF6-4A44-A604-A13910F85D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482436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32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4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75596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,332,756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493,250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3 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100,618 jumps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9,307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              </a:t>
            </a: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53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8218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8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1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4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4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1692360" cy="1039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47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8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during CF open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ow cutaway &amp; Line twists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anopy collision during C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unconscious before AAD fir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Hard 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caught cutaway canopy which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d with jumper’s own mai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Total 4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79311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2% (17) Landing Err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 9) Fast canop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3%  (7) Equipment probl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IE" sz="28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i="1" lang="en-IE" sz="40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02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66% of the 53 fatalities (18 were discounted for this statistic)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1% - 27 of 53 fatalities, occurred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% - 6 of the 53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79% - 42 of the 53 fatalities,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Emphasis on good and thorough initial and ongoing training is probably the only way in which the big numbers of fatalities, especially from canopy handling/landing, may be reduc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4 AAD Report, and Power Point presentations for both reports, has been sent by e-mail to all respondents and to all other countries for which we have e-mail addresses (72 in total)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–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Visiting Jumper Requirements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Chart 2006 – with details of AADs on the marke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Reserve Life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tudent Canopy Loading Gu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Not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55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6-01-16T20:58:31Z</dcterms:modified>
  <cp:revision>33</cp:revision>
  <dc:subject/>
  <dc:title>SAFETY &amp; TRAINING FORUM 25 January 2003</dc:title>
</cp:coreProperties>
</file>