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34A94-1A2A-4B9F-95F9-8ACD934755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34D8-AA45-4E8E-B0F2-E5DBBAA73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AFFB-D8D0-45C4-A6EA-F56D41001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65B5-C037-4DD2-BD2B-4E83D6102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5D3B-C0EF-45A5-B315-1ED0DE3C5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B3CA9B-4F31-41CC-A781-1258F9832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B11AF3-B158-4017-868F-70F97265B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09AD0A-F4B1-4DE7-828A-F46A17C65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539343-5016-4224-99F4-1FE7A4758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73DCC5-E923-48A0-BCE9-06F34D9D0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15C2E7-383A-4445-9DC4-4BE16183F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13741D-457E-47F9-BC12-0A38F630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C5E4-536B-48B6-80DF-7AB7DFE7D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20C114-0BF6-44A2-BDA0-ECEA2550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B94E26-9C8E-4F08-B929-27320F84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A4D77F-92FD-4A52-8670-D139997D2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1C1135-A21C-442F-8D8A-ED4ACBA7F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56C268-5D9F-4EA1-9457-19B80F98B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1FDB-8459-4491-8D24-44D2B1D44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8C59-1069-4010-9174-678B154DC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9F4A-EA9D-4C9C-A55C-57ADFB433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F6AF-AB9F-44F2-A56F-BDB9F04B7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AD8C-BD9F-4F3B-B9A6-9088AFDE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4EA8-3B2A-4A75-ABC5-372C3D58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31FF-6CBC-4765-8385-CC7E7DD4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C0F66-810C-4D3F-83AF-208FED07DE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6B264-96B4-4D6E-8968-B676B2F3B6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TECHNICAL &amp; SAFETY COMMITTE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559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2002 Safety Repor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 33 responding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3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5,769,010 skydives were made b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357,155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9,028 jum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,893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400" spc="-1" strike="noStrike">
                <a:solidFill>
                  <a:srgbClr val="ffffff"/>
                </a:solidFill>
                <a:latin typeface="Arial"/>
              </a:rPr>
              <a:t>73 Fataliti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5 Studen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29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0-25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4 Interm.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25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44 Exper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46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Cutaway/No or low reserve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    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    5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Other ‘ Fatalities (55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8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Other Landing Error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Canopy Collisio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Jumper walking into Propellor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Jumpers striking aircraft in air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Aircraft crash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Unknow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Fatalities – Largest Group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36640"/>
            <a:ext cx="82296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3%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9% Other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% No or Low Activation of Main 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ffffff"/>
                </a:solidFill>
                <a:latin typeface="Arial"/>
              </a:rPr>
              <a:t>Some Significant Figur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94% of 65 fatalities (8 were discount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60% of 65 fatalities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3% of fatalities might have been avoided by AAD u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90% of fatalities would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8 of the 73 Fatalities were First Jump Stud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creased use of A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Big movement towards Tandem jump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DISTRIBUTION OF RE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Report, along with 2002 AAD Report, has been sent by e-mail to all respondents and to all other countries for which we have e-mail addresses.  Hard copies and CDs are now available for delega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Some Tren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4-12-21T22:32:57Z</dcterms:modified>
  <cp:revision>14</cp:revision>
  <dc:subject/>
  <dc:title>SAFETY &amp; TRAINING FORUM 25 January 2003</dc:title>
</cp:coreProperties>
</file>