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D292-A49B-44C0-8147-566EB120D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10A2-8E85-4354-B9ED-C2F55B18E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BDB3-DF73-4F06-B8E9-7F123A3C3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BC5C-E944-4D1E-B60A-0595C107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03C6-A0B4-4C16-8834-17ED8E256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C05B-D310-4E86-8F4D-C2C47183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41E3-E81B-4E67-928A-1D43F739F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C78D-BBAA-4B75-963B-ED33A809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441D-2903-424A-815B-7651DCFF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5F83-F447-4917-B88E-BCA2093F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9FCF-9990-42B0-BA08-9F7E7BD7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5712-747A-4F62-BCC9-ABCD8496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4E52-CBAD-4782-9691-26E5069C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B83E-F4CE-481E-9757-CD8DBA88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717F-BBBB-4119-9C67-BEA45CE2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333F-CB78-4AE8-B57A-57CD9C47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7A1D-926A-4E5D-85F2-7084BA26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4DC6-B2FB-4D2B-8FC9-39A528034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2F6F-9382-4BD9-A0F8-1E95C90A0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84C69-FCB8-4443-B172-9DF8FE00B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F2C2C-DBDE-4324-BEE2-DF590AE4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C3612-0DE0-4760-AB7A-17620F51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203DF-6EF5-4214-BAD5-008128F2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1CDE0-C337-4453-8F07-8A9AF19E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64C0-072B-4668-BB5C-AB62B964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0E54A-2743-4900-93A1-9C866033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F0158-1032-4E7D-82CD-D6802B73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C2382-0952-405E-A027-74507057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86A2F-F45C-4EF6-AAA9-16B3863C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3DE45-CC66-471D-8D79-7CC619D3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973C9-CEA0-4514-AA1B-368A7AEF3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D1978-FBBA-4049-A391-C1F11AFD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F5932-465D-4F72-91B5-5D98FBAE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FBE5F-E037-426A-A157-88B1A22B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2AFD8-0D51-43E4-94F2-8EC26EC6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9D74-1855-4B52-A98A-38337BB3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A2CA2-EC8D-42AB-B278-AF1BB327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87DA3-A69D-43F2-A961-3CED0609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E871A-82A0-4A7B-8DB0-ECB2853F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9ABC0-6269-482B-9366-FA4DD465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8391D-2387-4B9D-8AA6-5F6A675D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22F70-800F-4DFD-895C-80F2724C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9AB1C-F2D5-474D-8D7C-F573F4AA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C6198-5F27-4DD5-A420-B6CF62C2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D8EC8-797C-4688-B835-F1CC5C783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6012-94FA-46CC-95A1-98F7FABB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B83C-FD06-46F7-8030-FCA18738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AF5A-226F-4166-9844-0C5ACA32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0EF8-1477-4F99-9C2B-063900F1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E2FC-C1E7-4F1E-BAF7-5D126CCE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DAEC-49DB-4C83-A365-4C1A1C72D66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30DF-4EFA-4380-A2E5-C8015858FE3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D9BF-710C-4A71-A66A-4456D2685D2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720D-1082-4C49-87DC-EA8C5613C11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2) issued in 2016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5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6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8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5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27,02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25,8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0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10,450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2,097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60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5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50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7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 pull, AAD fired and cut loop but  no reserve deployment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oot caught on line, cut away, reserve partly open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Spinning main, reserve deployed 800 ft., no cuta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Apparent incapacita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deflated at low altitude, structural failur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 – jumper over run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urbulence at low altitud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Wingsuit -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one wing not closed, vertical descent rate too low       1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to fire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50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12 - 2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7 – 12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d issu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6 – 1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9 (32% of total fatalities, 6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60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1 (68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48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6 (10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2 (70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Five of the 2015 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9 (32% of 60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7.6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55,873 Solo jumps – 1,171, 150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59 (60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7-01-17T21:11:37Z</dcterms:modified>
  <cp:revision>112</cp:revision>
  <dc:subject/>
  <dc:title>SAFETY &amp; TRAINING FORUM 25 January 2003</dc:title>
</cp:coreProperties>
</file>