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6081B-7105-4DB1-AD5F-DED359B5A0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F8D28-DA5C-41B2-A70E-CD69D2F15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A12D1-2E50-471B-AACA-6B054E8C5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2222C-01BD-40AA-99E2-7A20CDE43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DD19C-F299-4028-9B69-94DF57965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91D7B-E78F-4A5B-8685-03529715F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ABADD-16D2-4B36-8B5D-42D676A47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45E35-3D14-4A0A-8EB6-11CD8A1E1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05AA4-B830-421C-9529-B4775D906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D3403-C08F-4007-A999-5D5CC1573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A79D2-A9F0-4DAC-9CEE-81192963C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715E9-CD16-42BB-81AE-F5DE7306D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9C2CB-1E19-4948-B77E-99203702C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2A16C-550D-4539-B8D4-527400963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06A61-37A9-4FDB-8EB7-A139F0FE9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69A61-BD86-49EA-91EE-9CEB8376C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6CF83-E325-47FF-8DEC-6939D7E35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ACE58-17F2-4B0E-87F7-8CE99AAC2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150FF-01CE-4BDF-AE1F-9A7B0CFFC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922EE-9DF4-48BF-A7EE-E4E972178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C71A2-E266-4A1E-AAA2-00C1785ED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213D6-A47F-4FDD-9A20-DCFDCBF3F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1C6AA-4D24-41E5-87A9-77341C85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5C601-20CD-4571-84A6-2782B63F1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AE2B9-5161-450A-A346-FCDA9979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89E58-296D-4C24-81A9-7478463EB59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050F8-590A-48E9-9E58-6D4815F7ED1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e5e5ff"/>
                </a:solidFill>
                <a:latin typeface="Arial Unicode MS"/>
              </a:rPr>
              <a:t>TECHNICAL &amp; SAFETY COMMITTEE</a:t>
            </a:r>
            <a:br>
              <a:rPr sz="4800"/>
            </a:b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588000" y="260280"/>
            <a:ext cx="208764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640" y="353880"/>
            <a:ext cx="590544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e5e5ff"/>
                </a:solidFill>
                <a:latin typeface="Arial Unicode MS"/>
              </a:rPr>
              <a:t>2007 Safety Report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6920" y="1989000"/>
            <a:ext cx="69296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Garamond"/>
              </a:rPr>
              <a:t>41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6,222,629 skydives were made b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837,831 jump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68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8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91,509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,321 jump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236000" y="404640"/>
            <a:ext cx="169200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e5e5ff"/>
                </a:solidFill>
                <a:latin typeface="Arial Unicode MS"/>
              </a:rPr>
              <a:t>68 Fataliti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6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4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6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4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6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53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68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1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68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093080" y="404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63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e5e5ff"/>
                </a:solidFill>
                <a:latin typeface="Arial Unicode MS"/>
              </a:rPr>
              <a:t>‘</a:t>
            </a:r>
            <a:r>
              <a:rPr b="0" lang="en-IE" sz="3600" spc="-1" strike="noStrike">
                <a:solidFill>
                  <a:srgbClr val="e5e5ff"/>
                </a:solidFill>
                <a:latin typeface="Arial Unicode MS"/>
              </a:rPr>
              <a:t>Other’ Fatalities (52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4232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ollision under open Canopi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/Reserve Entanglement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Malfunction, no Reserve Activat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No Main Activation, too low Reserve Activat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Drow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Dragged on Land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Hard Ope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Reserve opened at Aircraft Door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Unknow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otal 5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16436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620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 Unicode MS"/>
              </a:rPr>
              <a:t>Fatalities – Largest Group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70400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2% (15 of 68) Other Landing Erro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6% (11) Fast Canop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0% (7) Cutaway and no Reserve Deploy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"/>
          <p:cNvSpPr/>
          <p:nvPr/>
        </p:nvSpPr>
        <p:spPr>
          <a:xfrm>
            <a:off x="826920" y="981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e5e5ff"/>
                </a:solidFill>
                <a:latin typeface="Arial Unicode MS"/>
              </a:rPr>
              <a:t>Some Significant Figur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000" y="1917720"/>
            <a:ext cx="80024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2 of the 68 fatalities (47%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4 of the 68 fatalities (50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6 of the 68 fatalities (24%) might have been avoided by AAD us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55 of the 68 fatalities (81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5 of the 68 Fatalities were First Jump Studen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2 of the 68 Fatalities were Tandem, Instructor &amp; Studen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 Unicode MS"/>
              </a:rPr>
              <a:t>Some Trends &amp; Issue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71640" y="1844280"/>
            <a:ext cx="74167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numbers of fatalities resulting from landing and handling canopies – a continuing issu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talities from Medical Issues, 6 – 12%, appears to be a more apparent factor in recent years.  This may point to an ageing skydiving population or other factors may be involve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6 - 24% of fatalities in 2007 may have been avoided by the use of AA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e5e5ff"/>
                </a:solidFill>
                <a:latin typeface="Arial Unicode MS"/>
              </a:rPr>
              <a:t>Tandem - Solo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9.6% of all jumps, Tandem &amp; Solo jumps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2.2% in 2006; 10.4% in 200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5,624,395 Solo jumps – 598,234 Tandem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0 :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 :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5.5 :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2 (3%)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Solo Fatalities 66 (97%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Garamond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This report, along with 2007 AAD Report, and Power Point presentations for both reports, has been sent by e-mail to all respondents and to all other countries for which we have e-mail addresses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Garamond"/>
              </a:rPr>
              <a:t>The CD has the following -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AAD Report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AAD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Information Notices (8) issued in 2008 by T &amp; S Committe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Safety Survey 2008 Form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Safety Survey 2008 Notes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AAD Survey 2008 For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Garamond"/>
              </a:rPr>
              <a:t>APPEAL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Garamond"/>
              </a:rPr>
              <a:t>Those countries who did not report for 2007 are earnestly requested to make a special effort to do so for 2008.  The compilation of data is to the benefit of the country gathering same, not only to IPC and the worldwide skydiving community</a:t>
            </a: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059600" y="388800"/>
            <a:ext cx="1601640" cy="9302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826920" y="62064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09-01-22T12:15:24Z</dcterms:modified>
  <cp:revision>56</cp:revision>
  <dc:subject/>
  <dc:title>SAFETY &amp; TRAINING FORUM 25 January 2003</dc:title>
</cp:coreProperties>
</file>