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F7E83-D39F-4296-85EF-4A8682488D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F31F8-D60C-4F15-A58F-274DBF228FF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5A67-5C07-4D35-A237-29D4EED8A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70A3-F0F8-4EBA-B579-A621C4566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DFE0-467B-49AF-99D8-591EE2A7C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B21D-4372-4FDF-B67A-B4DBDDB88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A026E-0B0D-4173-95A1-C99E9C17C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287E2-ED35-4871-A23E-940AAB39A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27F0B-C861-4280-AC8B-3CA88C077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3A9B5-091C-4C69-BAF6-A34068952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07209-8594-4958-BACF-C0D096E3B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37701-5CCD-4F6B-8D7C-2EB6A25A3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2898A-F184-407A-BE0B-2386A03F3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D00A-1F09-44ED-95C7-A0EC1A598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42168-E065-414A-8E29-0E4A4FDC4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B2954-4BF3-4E60-BBC7-8FA9C8D7B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979A8-0CD7-4E5B-839D-BAEBACF76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1A309-7D92-4FF5-B85B-5E32EC743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D92D0-D923-4B0D-9E31-DF2CDCDD1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56D1-A8AA-46CE-AFEE-25957B4E3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7C06-5812-4C70-B49D-9DC550730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44FA-F4E3-4397-B653-C72E4803B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C763-D024-43ED-A53B-BC3676182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962A-2FAB-4B95-B4EB-31F0AFA66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D83F-AC92-4B03-9DF7-6ED449015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D6DF-36BF-4D38-AD85-D6F30A9EB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8E05C-A135-41F7-BB41-B80ACFD9D2C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F7794-4788-4942-89AC-C8A1F4A3730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6560" y="184464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ECHNICAL &amp; SAFETY COMMITTEE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116000" y="3499920"/>
            <a:ext cx="7848720" cy="24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Picture 5" descr="logo_ipc_01_trait copie"/>
          <p:cNvPicPr/>
          <p:nvPr/>
        </p:nvPicPr>
        <p:blipFill>
          <a:blip r:embed="rId1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2010 Safety Re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86920" y="1700280"/>
            <a:ext cx="692964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40 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countries supplied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6,420,087 skydives were made 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,164,200 jum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             </a:t>
            </a: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66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people were killed skydiv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(these figures include Tandem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 Fatality p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97,274 jumps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7,639 jum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Picture 4" descr="logo_ipc_01_trait copie"/>
          <p:cNvPicPr/>
          <p:nvPr/>
        </p:nvPicPr>
        <p:blipFill>
          <a:blip r:embed="rId1"/>
          <a:stretch/>
        </p:blipFill>
        <p:spPr>
          <a:xfrm>
            <a:off x="7164360" y="404640"/>
            <a:ext cx="1513080" cy="11462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66 Fataliti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42920" y="1773360"/>
            <a:ext cx="7632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0 Studen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15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9 Intermed.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14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47 Exper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71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 6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5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 6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Picture 7" descr="logo_ipc_01_trait copie"/>
          <p:cNvPicPr/>
          <p:nvPr/>
        </p:nvPicPr>
        <p:blipFill>
          <a:blip r:embed="rId7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Other’ Fatalities (51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4360" y="2276640"/>
            <a:ext cx="7781760" cy="33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Landing Error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Fast Canopies  -  Intentional Fast Landing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Collisions/Entanglements after opening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ain/Reserve Entanglement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         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Freefall Collision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edical Issue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ain malfunction/no cutaway, Spiralled to ground       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Total 5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5" descr="logo_ipc_01_trait copie"/>
          <p:cNvPicPr/>
          <p:nvPr/>
        </p:nvPicPr>
        <p:blipFill>
          <a:blip r:embed="rId8"/>
          <a:stretch/>
        </p:blipFill>
        <p:spPr>
          <a:xfrm>
            <a:off x="7093080" y="549360"/>
            <a:ext cx="1511280" cy="928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700" spc="-1" strike="noStrike">
                <a:solidFill>
                  <a:srgbClr val="ffffff"/>
                </a:solidFill>
                <a:latin typeface="Arial Unicode MS"/>
              </a:rPr>
              <a:t>Fatalities – Largest Groups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6920" y="2349360"/>
            <a:ext cx="777744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Landing Error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5 - 23% of 6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2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Fast Canopies/Intent.  Fast Landing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3 - 20% of  6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3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Canopy Collisions/Entanglements           11 – 17% of 6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These  39 of the 66 fatalities - (59%) were                      canopy handling issu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Picture 5" descr="logo_ipc_01_trait copie"/>
          <p:cNvPicPr/>
          <p:nvPr/>
        </p:nvPicPr>
        <p:blipFill>
          <a:blip r:embed="rId4"/>
          <a:stretch/>
        </p:blipFill>
        <p:spPr>
          <a:xfrm>
            <a:off x="7093080" y="549360"/>
            <a:ext cx="1511280" cy="10792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10920" y="417600"/>
            <a:ext cx="618156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ffff"/>
                </a:solidFill>
                <a:latin typeface="Arial Unicode MS"/>
              </a:rPr>
              <a:t>Significant Fig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68000" y="1700280"/>
            <a:ext cx="800244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44 of the 66 fatalities (67%) appear to have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39 of the 66 fatalities (59%)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93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10 of the 66 fatalities (16%) might have been avoided by AA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59 of the 66 fatalities (89%)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69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4 (6%) of the  66 Fatalities were First Jump Stud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9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    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There were no were Tandem fatalities  in 20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936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Picture 4" descr="logo_ipc_01_trait copie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1008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ffffff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71640" y="1990440"/>
            <a:ext cx="741672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Continuing high numbers of fatalities, 39 – 59%, resulting from canopy handling, canopy control, and landing issu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Over a ten-year period there has been an irregular decrease in the percentages of fatalities among Student and Intermediate jumpers and an irregular increase in the percentage of fatalities with Expert jump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Increased use of AAD and RSL repor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Picture 5" descr="logo_ipc_01_trait copie"/>
          <p:cNvPicPr/>
          <p:nvPr/>
        </p:nvPicPr>
        <p:blipFill>
          <a:blip r:embed="rId4"/>
          <a:stretch/>
        </p:blipFill>
        <p:spPr>
          <a:xfrm>
            <a:off x="6877080" y="620640"/>
            <a:ext cx="1440000" cy="10638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 15.1%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, Tandem + Solo jumps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  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2009 – 13.5%; 2008 - 12.1%; 2007 - 9.6%; 2006 – 12.2%; 2005 – 10.4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5,452,158 Solo jumps –  967,929 Tand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ratio to other types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First Jump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tatic Line and IAD/JAD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26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AFF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6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/L, IAD/JAD, AFF combined         10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Unicode MS"/>
              </a:rPr>
              <a:t>All 2010 fatalities were Solo jump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Picture 4" descr="logo_ipc_01_trait copie"/>
          <p:cNvPicPr/>
          <p:nvPr/>
        </p:nvPicPr>
        <p:blipFill>
          <a:blip r:embed="rId3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899640" y="1483920"/>
            <a:ext cx="75438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is report, along with 2010 AAD Report, and Power Point presentations for both Safety and AAD reports, has been sent by e-mail to all respondents and to all other countries for which the T&amp;S Committee has e-mail address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CDs are available to IPC Delegates and to Technical and Safety Officer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who request copi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The CD has the following material 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10 Safety Survey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10 Safety Survey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10 AAD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10 AAD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11 Form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11 Notes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AAD Survey 2011 For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Information Notices (7) issued in 2011 by T &amp; S Committee of IP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1200" spc="-1" strike="noStrike">
                <a:solidFill>
                  <a:srgbClr val="ffffff"/>
                </a:solidFill>
                <a:latin typeface="Arial"/>
              </a:rPr>
              <a:t>Learning from the Mistakes of Others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, Skydive Arizona  Accident review 1991 – 20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by Bryan Burke, S&amp;T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 u="sng">
                <a:solidFill>
                  <a:srgbClr val="ffffff"/>
                </a:solidFill>
                <a:uFillTx/>
                <a:latin typeface="Arial"/>
              </a:rPr>
              <a:t>APPE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ose countries who did not report for 2010 are requested to make a special effort to do so for 2011.  The compilation of data is to the benefit of the country gathering same,  and 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e worldwide skydiving communit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buSzPct val="24721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Picture 8" descr="logo_ipc_01_trait copie"/>
          <p:cNvPicPr/>
          <p:nvPr/>
        </p:nvPicPr>
        <p:blipFill>
          <a:blip r:embed="rId2"/>
          <a:stretch/>
        </p:blipFill>
        <p:spPr>
          <a:xfrm>
            <a:off x="7021440" y="404640"/>
            <a:ext cx="1328760" cy="93672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10"/>
          <p:cNvSpPr/>
          <p:nvPr/>
        </p:nvSpPr>
        <p:spPr>
          <a:xfrm>
            <a:off x="104292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18-11-04T20:16:36Z</dcterms:modified>
  <cp:revision>80</cp:revision>
  <dc:subject/>
  <dc:title>SAFETY &amp; TRAINING FORUM 25 January 2003</dc:title>
</cp:coreProperties>
</file>