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C1C5D-E7A7-4BBA-AEB1-2E6BA47E1F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A1498-5A59-481C-8C21-164EAACBC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7A7A-318A-4D2D-B28B-81FB5845C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C533-7553-4746-AE5C-09D3EBFB6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7452-A4D3-4A36-AD4F-76F6D614E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E768-D807-4553-B0EE-B7332D55D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FBF40-CDB8-478B-AC76-EBBD7A027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D4D7F-169B-4A24-8F9C-E1BBCB309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4EC83-3E7A-430C-B0CB-923B21FC9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16E03-AD04-491D-AA65-963466ED9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00FEF-9711-4D8A-8A1F-931D9C3D7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266D3-274C-4009-AA8E-4EC9A5787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594D1-CDC7-48D5-99A7-CEC5112D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E43F-396E-4F9D-9BCE-5E7CA4754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EBBCD-8D0E-4B71-A493-5F41DB77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28DF7-A884-4A68-A7BC-57122F77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AD215-56DA-44BB-B753-302092472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58539-FF93-4D74-AE00-88C01B127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765E5-A979-4DDA-9C54-7FD9F1FEB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D6851-7CDD-446D-8A62-9FF0276FD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B65AF-A6E5-4BF7-8D76-E6D83072D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3E803-0172-47B8-A1EF-F531A8E51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C82FF-C6C3-4C47-927A-41B53E83E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4ED85-80CB-486A-A7ED-E28BC7209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32A3-403C-48BF-857B-3BBF69623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EA8ED-65B3-440C-9939-9D481EE24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CDF4E-6B39-4E7D-B764-16A3FD51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E246A-6F4E-4465-BA4C-C7F1C876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E19F4-9632-4BCF-8023-FDC97E80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368E9-E6F9-4696-9C44-C5025C8EB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91761-7ADE-4355-A595-B83148B24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4AE38-7144-43ED-A483-1C653B1AD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04500-14B2-4010-8176-83C89C485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4F0D5-8F26-4DB2-B992-C7FF5D8D2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6774B-BCBB-42EF-93E4-059A2D34F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137E-8853-48BB-9925-E49346E32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8DA50-5582-408B-97BC-FB38D90F0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7ECDA-117E-485B-A493-C9792694A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18754-3814-43C7-B598-E2E92115B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1E49E-EA2A-496E-8078-5140EBF3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9F254-0ACB-417C-92A0-D6D25293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D8F1A-1785-443F-ACED-5A1CE71BC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3AC7C-0FCD-4E9B-B81E-FDFC1FE03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732B1-5A7E-4E3D-8843-3B3F2963D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33020-5EEE-4804-B1AE-2654827AE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890B-377F-4BF1-ABA4-D4801B3A7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B11B-6824-4238-9683-53DD5289C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826A-55C8-4A57-9EC6-27B5A440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F341-86E4-4CCD-94A4-D903EF25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1763-A76D-4E78-9AAD-68E42942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1A879-6ED6-4AB7-8F44-13838BECBAE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FB03D-F6B9-4409-ABE1-4C53D152C06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715C7-1C60-4475-B895-092B60FC6F9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7B216-A1FF-4880-9540-0EFA1FB0356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who request copi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CD has the following material -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5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5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6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6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s (2) issued in 2016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5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6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7 countries responded, from a possible approximately 85, a response rate of 44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8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5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7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627,02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25,838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0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as one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5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10,450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2,097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60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1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1 Intermediate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8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3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50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50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ast Canopies - Intentional Fast Landing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7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5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/Reserve Entanglemen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 Malfunction, no ac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andem Fatalit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No pull, AAD fired and cut loop but  no reserve deployment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oot caught on line, cut away, reserve partly open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Spinning main, reserve deployed 800 ft., no cutawa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edical Issu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Apparent incapacita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deflated at low altitude, structural failur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ollision with aircraft – jumper over runwa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urbulence at low altitud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Wingsuit -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 one wing not closed, vertical descent rate too low       1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to fire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5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500" spc="-1" strike="noStrike" u="sng">
                <a:solidFill>
                  <a:srgbClr val="000000"/>
                </a:solidFill>
                <a:uFillTx/>
                <a:latin typeface="Arial Unicode MS"/>
              </a:rPr>
              <a:t>Total  50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12 - 20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7 – 12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Related issu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6 – 10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9 (32% of total fatalities, 60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60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1 (68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9 (48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6 (10%) might have been avoided by AAD us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2 (70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Five of the 2015  fatalities were First Jump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9 (32% of 60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7.6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455,873 Solo jumps – 1,171, 150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1; Solo Fatalities 59 (60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7-01-17T21:11:37Z</dcterms:modified>
  <cp:revision>112</cp:revision>
  <dc:subject/>
  <dc:title>SAFETY &amp; TRAINING FORUM 25 January 2003</dc:title>
</cp:coreProperties>
</file>