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AE27-7515-42E3-ADFD-BC883454B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2B091-BCCA-4B58-88D1-0569D4CAD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4E714-107D-434E-AE19-92E6112C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73609-11F5-4399-8E0C-8D3BDA77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5A94E-769F-4A5C-B60A-6DB93C597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4AB8-FF3A-451A-A6D6-6C73518D1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5ABD-E4E2-461E-B8E1-666FE63B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555A-C5E1-43E7-B8D6-DD58A73A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F20A-24AC-4B76-B0F1-AB0877B7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2173-A5FD-4A20-B9EC-73CC775E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88C0-7D82-46F0-803F-B68886D1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7E37-EE4B-419D-9D65-C07E7BD4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4CE88-0BD2-4908-AAD5-20C4000B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B81A-7B61-495F-A5DC-4C35A967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FD2D-9ED0-4C67-B599-4D666F12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6371-D8B8-4C8E-84FC-768A6558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A183-F3A4-4CD5-90BA-4A6052C4C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FACA-C112-450C-96B3-F7F1756AA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BFFEE-72EF-41FF-AB86-CFF28827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33697-D4ED-4D49-978F-12F9AD01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27978-F00E-4DBE-BE52-3C811789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F2A6E-BBB7-43CE-BE7C-53407DAF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C62EF-3714-4644-B490-336FF543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F8056-68BC-4E7C-8000-CE65E595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7F92F-7FBA-471F-BEC5-69A55176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551E-C0F0-4F81-953B-926DDE1A2A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F118-B3A7-44F0-956E-78CFDEE97A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82436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32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4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75596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,332,756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493,250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3 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100,618 jumps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9,307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              </a:t>
            </a: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53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218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8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1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4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4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1692360" cy="1039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47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8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during CF open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ow cutaway &amp; Line twists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anopy collision during C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unconscious before AAD fir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Hard 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caught cutaway canopy whic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d with jumper’s own mai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Total 4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79311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2% (17) Landing Err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 9) Fast canop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3%  (7) Equipment probl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IE" sz="28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i="1" lang="en-IE" sz="40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02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66% of the 53 fatalities (18 were discounted for this statistic)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1% - 27 of 53 fatalities, occurred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% - 6 of the 53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79% - 42 of the 53 fatalities,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Emphasis on good and thorough initial and ongoing training is probably the only way in which the big numbers of fatalities, especially from canopy handling/landing, may be reduc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4 AAD Report, and Power Point presentations for both reports, has been sent by e-mail to all respondents and to all other countries for which we have e-mail addresses (72 in total)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–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Visiting Jumper Requirements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Chart 2006 – with details of AADs on the marke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Reserve Life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tudent Canopy Loading Gu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Not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55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6-01-16T20:58:31Z</dcterms:modified>
  <cp:revision>33</cp:revision>
  <dc:subject/>
  <dc:title>SAFETY &amp; TRAINING FORUM 25 January 2003</dc:title>
</cp:coreProperties>
</file>